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8B3-F814-459E-895A-6E972334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621-B1DD-4AB9-9512-FE7B3894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2D3-5153-406A-A5BD-06831866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461-4A4E-4C71-9623-EDF2427B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0BC-B267-457F-946D-31E6AE90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663-A816-4AF3-B0B8-81C5C8C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3EE-1AB8-46E6-AF6A-77D0C8A7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3CC-16FB-4728-A08C-8AB75F32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5F7-B48E-4712-9A10-0000E75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6D1-477E-418C-A6EC-E6AACACB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786-5EA9-4D13-B259-DF571A9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D35-CD15-4759-89C6-787F1C6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29DC-F66D-414E-AAFF-71906557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Скелет конечност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32720" y="3860640"/>
            <a:ext cx="15555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ости свободной нижней коне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3387600" cy="602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2510" r="10289" b="9342"/>
          <a:stretch/>
        </p:blipFill>
        <p:spPr>
          <a:xfrm>
            <a:off x="4788000" y="1674720"/>
            <a:ext cx="3600360" cy="5183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148360" y="98100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дренн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ости гол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0" r="67127" b="3457"/>
          <a:stretch/>
        </p:blipFill>
        <p:spPr>
          <a:xfrm>
            <a:off x="3276720" y="1025640"/>
            <a:ext cx="2387520" cy="583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40360" y="2349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еберцов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276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берцов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71640" y="2924280"/>
            <a:ext cx="237636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2852640"/>
            <a:ext cx="17989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5516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теральная лоды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56360" y="5445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альная лоды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6093000"/>
            <a:ext cx="158292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58920" y="5877000"/>
            <a:ext cx="1297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ости сто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6408720" cy="4929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3213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р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6165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98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дье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60930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б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69228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иновидные (медиальная, промежуточная и латераль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5373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ю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3346800">
            <a:off x="5163480" y="4148640"/>
            <a:ext cx="442800" cy="1727280"/>
          </a:xfrm>
          <a:custGeom>
            <a:avLst/>
            <a:gdLst>
              <a:gd name="textAreaLeft" fmla="*/ 0 w 442800"/>
              <a:gd name="textAreaRight" fmla="*/ 159840 w 4428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3346800">
            <a:off x="6486840" y="3536280"/>
            <a:ext cx="373320" cy="1152360"/>
          </a:xfrm>
          <a:custGeom>
            <a:avLst/>
            <a:gdLst>
              <a:gd name="textAreaLeft" fmla="*/ 0 w 373320"/>
              <a:gd name="textAreaRight" fmla="*/ 134640 w 3733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414972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ланги паль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421000"/>
            <a:ext cx="1151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3716280"/>
            <a:ext cx="1511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332000" y="5734080"/>
            <a:ext cx="7920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08000" y="1484280"/>
            <a:ext cx="792360" cy="21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995280" y="1557360"/>
            <a:ext cx="505080" cy="25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11280" y="1484280"/>
            <a:ext cx="28908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80000" y="5013000"/>
            <a:ext cx="215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На сегодня всё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19684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келет верхней коне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сти плечевого поя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сти свободной 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5530" t="0" r="5959" b="0"/>
          <a:stretch/>
        </p:blipFill>
        <p:spPr>
          <a:xfrm>
            <a:off x="0" y="981000"/>
            <a:ext cx="53672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лечевой поя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92760" y="2781360"/>
            <a:ext cx="3351240" cy="407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627280" y="981000"/>
            <a:ext cx="4505400" cy="172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5115" r="0" b="0"/>
          <a:stretch/>
        </p:blipFill>
        <p:spPr>
          <a:xfrm>
            <a:off x="1979640" y="2852640"/>
            <a:ext cx="3470400" cy="400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00536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кромиаль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45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теральный угол с суставной я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276640"/>
            <a:ext cx="24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лювовидный от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306864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19700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кромиальный 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43640" y="836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удинный 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652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опатка (реберная и дорсальная поверх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052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юч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162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3284640"/>
            <a:ext cx="100836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2708280"/>
            <a:ext cx="792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659640" y="1557360"/>
            <a:ext cx="1079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971640" y="3284640"/>
            <a:ext cx="1439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050920" y="4149720"/>
            <a:ext cx="7207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ости свободной верхней коне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5530" t="3310" r="5959" b="3988"/>
          <a:stretch/>
        </p:blipFill>
        <p:spPr>
          <a:xfrm>
            <a:off x="0" y="1268280"/>
            <a:ext cx="5506920" cy="55897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5867280" y="1916280"/>
            <a:ext cx="2985840" cy="4941720"/>
            <a:chOff x="5867280" y="1916280"/>
            <a:chExt cx="2985840" cy="4941720"/>
          </a:xfrm>
        </p:grpSpPr>
        <p:pic>
          <p:nvPicPr>
            <p:cNvPr id="67" name="" descr=""/>
            <p:cNvPicPr/>
            <p:nvPr/>
          </p:nvPicPr>
          <p:blipFill>
            <a:blip r:embed="rId3"/>
            <a:srcRect l="8902" t="0" r="57849" b="0"/>
            <a:stretch/>
          </p:blipFill>
          <p:spPr>
            <a:xfrm>
              <a:off x="5867280" y="1916280"/>
              <a:ext cx="1410840" cy="49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4"/>
            <a:srcRect l="52831" t="0" r="8496" b="0"/>
            <a:stretch/>
          </p:blipFill>
          <p:spPr>
            <a:xfrm>
              <a:off x="7211520" y="1916280"/>
              <a:ext cx="1641600" cy="49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6441840" y="1413000"/>
            <a:ext cx="21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ечев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ости предплеч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6638" t="0" r="9213" b="11459"/>
          <a:stretch/>
        </p:blipFill>
        <p:spPr>
          <a:xfrm>
            <a:off x="395280" y="1268280"/>
            <a:ext cx="4291200" cy="5589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946760" y="1197000"/>
            <a:ext cx="4197240" cy="566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7640" y="9810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кте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98100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уче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ости кисти (ладонная поверхнос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666960" cy="573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3976560" cy="4076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34560" y="206064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дьеви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5800" y="119700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лу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57080" y="90792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хгр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5920" y="14842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охови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321300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2920" y="6021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пециеви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0" y="64612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ловча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6720" y="602136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ючкови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3716280"/>
            <a:ext cx="10792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2492280"/>
            <a:ext cx="115236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1557360"/>
            <a:ext cx="1224000" cy="172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1341360"/>
            <a:ext cx="36036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524720" y="1916280"/>
            <a:ext cx="719280" cy="158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76720" y="4076640"/>
            <a:ext cx="1079640" cy="19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588000" y="3933360"/>
            <a:ext cx="0" cy="251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093080" y="3933720"/>
            <a:ext cx="792000" cy="215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келет нижней коне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сти тазового поя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сти свободной 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0" t="3720" r="0" b="0"/>
          <a:stretch/>
        </p:blipFill>
        <p:spPr>
          <a:xfrm>
            <a:off x="1116000" y="907920"/>
            <a:ext cx="34783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14476" t="0" r="5943" b="2933"/>
          <a:stretch/>
        </p:blipFill>
        <p:spPr>
          <a:xfrm>
            <a:off x="1547640" y="1025640"/>
            <a:ext cx="6048720" cy="5832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азовый поя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1019160"/>
            <a:ext cx="73821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20:05:33Z</dcterms:created>
  <dc:creator>Павел</dc:creator>
  <dc:description/>
  <dc:language>en-US</dc:language>
  <cp:lastModifiedBy>Павел</cp:lastModifiedBy>
  <dcterms:modified xsi:type="dcterms:W3CDTF">2011-10-31T09:53:38Z</dcterms:modified>
  <cp:revision>6</cp:revision>
  <dc:subject/>
  <dc:title>Скелет конечностей</dc:title>
</cp:coreProperties>
</file>