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5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1.gif" ContentType="image/gif"/>
  <Override PartName="/ppt/media/image29.gif" ContentType="image/gif"/>
  <Override PartName="/ppt/media/image28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CAD6-9BE1-4DC2-A393-BE200B9F8927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B0A7-37D4-4C32-9AF4-A4E06B0547E4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8497-1557-4466-898D-E71ECAA84E6D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AC76-D9FF-4F73-AE9D-2B29B94B17FC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4C6E-28B2-47C4-BBB4-381734E9929B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6D7B-0838-4DBC-94FB-C7620D862A7B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4A1A-1433-426D-B713-DD078D38C12E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0886-8F89-4DB1-B2A1-285C6CCFA8F4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016F-31AB-4ACC-9A0A-1007180326E9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FD5A-6331-4401-A363-24707F0A35E0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A342-B98D-4332-A1E3-DDC5D7F453C9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4255-C8A8-4066-9465-824DAA1BB494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4473-3A21-451E-B400-8008AB5E3FCE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8393-DD83-4D91-9F68-176D06B5AE98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DC99-7438-484D-B913-DE498A10F228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0DBA-4707-44C7-A2FB-F7A9A84BEDE1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7024-07E8-4189-A6B7-8FDEA4A4E416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AA23-562A-4E6D-AEB4-FAD4D9688719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14D0-BC81-45AA-A40C-29EF9F2676E7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D22D-C074-4C18-917E-279C19665445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71C-E51E-452E-B005-A88A9BD1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3EF-0444-46ED-88E0-9ED2ED2B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EE0-4D38-49BD-A06F-159730FA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753-E285-4BB6-A255-08A61A02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C362-77D4-42D4-AA5B-6483D7CE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CA98-799B-4BAE-99BA-EB86394C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8874-9F1D-4CE8-8974-2B921372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4B7F-C631-4FB0-B167-7B049E04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8B52-79E3-4116-ABA0-8204B57E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1A82-9F3F-48AD-A28B-DF902C10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443A-1E16-477E-9EC9-61ADF394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D1C-76A5-47E9-9491-C362D61B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40E0-2C42-43CD-8AED-4592EFEE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3975-4536-4914-8CA6-BA73C0EE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B204-433B-4B09-BEB2-780234A7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3F2B-DC95-4FEB-890D-74B66BDA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856B-D7A0-4973-B93F-6987E777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1DC35-2ED8-4E54-828B-D6846908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FC74A-AB87-4212-8513-D9FDCAF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1A404-C184-44A0-96A0-F4E782E9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5E40-FA6C-431C-9913-3D3B768F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C9F7-382A-4307-A5A4-5FAFBE93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639-7F8C-4127-997D-E5638E5A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DDE9-48C9-4A9E-947F-55E51287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A4AFE-3627-43FC-9F26-7118C5A9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E08C-8D2A-4F9F-9B1C-4E98D949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A97A-6F2E-4FE1-845D-A279C6CF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6A531-CDE6-490A-8A3E-FF0C63EA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10BDB-047D-425B-BF74-27D99A88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5E8B-9263-444B-919E-E07C8395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660-A473-4F53-8AC9-1E085245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A6E-EDEE-4B65-AEF6-A95A9EC9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C14-08C3-4F6C-8B2A-EB99C8C5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0F0-5F65-4E76-8D8E-C353A2DD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E73-A2E5-4ECA-B8B7-22076239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B1D-73CC-4895-8A03-170CE34B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E3CF-A90E-439E-8775-2AED0D823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8E03-01DB-4D25-A804-65AC38AB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8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4A95-C382-4A73-8291-8C2DAE8A66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0728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4c2600"/>
                </a:solidFill>
                <a:latin typeface="Arial Black"/>
              </a:rPr>
              <a:t>Эндокринные железы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 Black"/>
              </a:rPr>
              <a:t>Регуляция работы ЖВ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6021360"/>
            <a:ext cx="655164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летки, ткани, орган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"/>
          <p:cNvSpPr/>
          <p:nvPr/>
        </p:nvSpPr>
        <p:spPr>
          <a:xfrm>
            <a:off x="1079640" y="4581360"/>
            <a:ext cx="2771640" cy="86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пофиззависимые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ВС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581360"/>
            <a:ext cx="3024360" cy="86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пофизнезависимые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ВС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3213000"/>
            <a:ext cx="223200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11313"/>
                </a:solidFill>
                <a:latin typeface="Arial"/>
              </a:rPr>
              <a:t>Гипофиз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1989000"/>
            <a:ext cx="223200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11313"/>
                </a:solidFill>
                <a:latin typeface="Arial"/>
              </a:rPr>
              <a:t>Гипоталамус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981000"/>
            <a:ext cx="22320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БП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"/>
          <p:cNvSpPr/>
          <p:nvPr/>
        </p:nvSpPr>
        <p:spPr>
          <a:xfrm>
            <a:off x="2844720" y="155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27082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629080" y="27082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2708280"/>
            <a:ext cx="1081080" cy="18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39337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23640" y="50133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3933720"/>
            <a:ext cx="863640" cy="20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"/>
          <p:cNvSpPr/>
          <p:nvPr/>
        </p:nvSpPr>
        <p:spPr>
          <a:xfrm>
            <a:off x="2484360" y="5445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5445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126828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2349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268280"/>
            <a:ext cx="0" cy="504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6308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508720" y="836640"/>
            <a:ext cx="3635280" cy="3168720"/>
            <a:chOff x="5508720" y="836640"/>
            <a:chExt cx="3635280" cy="31687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5508720" y="836640"/>
              <a:ext cx="363528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520680" y="2238120"/>
              <a:ext cx="695160" cy="763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V="1">
            <a:off x="5219640" y="126792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995640" y="126828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995640" y="234936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59752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Arial Black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0" r="3314" b="4516"/>
          <a:stretch/>
        </p:blipFill>
        <p:spPr>
          <a:xfrm>
            <a:off x="0" y="1312920"/>
            <a:ext cx="5867280" cy="554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203" name=""/>
          <p:cNvGrpSpPr/>
          <p:nvPr/>
        </p:nvGrpSpPr>
        <p:grpSpPr>
          <a:xfrm>
            <a:off x="6659640" y="0"/>
            <a:ext cx="2484360" cy="2087640"/>
            <a:chOff x="6659640" y="0"/>
            <a:chExt cx="2484360" cy="208764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6659640" y="0"/>
              <a:ext cx="2484360" cy="2087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05" name=""/>
            <p:cNvSpPr/>
            <p:nvPr/>
          </p:nvSpPr>
          <p:spPr>
            <a:xfrm>
              <a:off x="7351200" y="923400"/>
              <a:ext cx="475200" cy="5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940360" y="2349360"/>
            <a:ext cx="320508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ормоны аденогипофиз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.Адренокортикотропный (АКТГ)</a:t>
            </a: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.Соматотропный (СТГ)</a:t>
            </a: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Тиреотропный (ТТГ)</a:t>
            </a: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4.Фолликулостимулирующий (ФСГ)</a:t>
            </a: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.Лютеинизирующий (ЛГ)</a:t>
            </a: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6.Гормон, стимулирующий интерстициальные эндокриноциты (ГСИЭ)</a:t>
            </a: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.Лактотропный (пролактин, ЛТГ)</a:t>
            </a: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8.Эндорфин</a:t>
            </a: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ормоны нейрогипофиз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.Антидиуретический (вазопрессин, АДГ)</a:t>
            </a: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.Окситоцин</a:t>
            </a: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2600"/>
                </a:solidFill>
                <a:latin typeface="Arial Black"/>
              </a:rPr>
              <a:t>Гипер- и гипосекреция СТ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гигантизм и карликовость"/>
          <p:cNvPicPr/>
          <p:nvPr/>
        </p:nvPicPr>
        <p:blipFill>
          <a:blip r:embed="rId1"/>
          <a:stretch/>
        </p:blipFill>
        <p:spPr>
          <a:xfrm>
            <a:off x="324000" y="981000"/>
            <a:ext cx="3174840" cy="489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443640" y="981000"/>
            <a:ext cx="2286000" cy="295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210" name=""/>
          <p:cNvGrpSpPr/>
          <p:nvPr/>
        </p:nvGrpSpPr>
        <p:grpSpPr>
          <a:xfrm>
            <a:off x="4140360" y="4265640"/>
            <a:ext cx="4353840" cy="2592360"/>
            <a:chOff x="4140360" y="4265640"/>
            <a:chExt cx="4353840" cy="2592360"/>
          </a:xfrm>
        </p:grpSpPr>
        <p:pic>
          <p:nvPicPr>
            <p:cNvPr id="211" name="Picture 7" descr="акромегалия 1"/>
            <p:cNvPicPr/>
            <p:nvPr/>
          </p:nvPicPr>
          <p:blipFill>
            <a:blip r:embed="rId3"/>
            <a:srcRect l="4431" t="0" r="6250" b="0"/>
            <a:stretch/>
          </p:blipFill>
          <p:spPr>
            <a:xfrm>
              <a:off x="4140360" y="4265640"/>
              <a:ext cx="2169000" cy="25923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212" name="Picture 8" descr="акромегалия 2"/>
            <p:cNvPicPr/>
            <p:nvPr/>
          </p:nvPicPr>
          <p:blipFill>
            <a:blip r:embed="rId4"/>
            <a:stretch/>
          </p:blipFill>
          <p:spPr>
            <a:xfrm>
              <a:off x="6309360" y="4265640"/>
              <a:ext cx="2184840" cy="25923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sp>
        <p:nvSpPr>
          <p:cNvPr id="213" name=""/>
          <p:cNvSpPr/>
          <p:nvPr/>
        </p:nvSpPr>
        <p:spPr>
          <a:xfrm>
            <a:off x="1042920" y="6021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гантизм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"/>
          <p:cNvSpPr/>
          <p:nvPr/>
        </p:nvSpPr>
        <p:spPr>
          <a:xfrm>
            <a:off x="4284720" y="1052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ликовость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3789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596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Arial Black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494a"/>
          <p:cNvPicPr/>
          <p:nvPr/>
        </p:nvPicPr>
        <p:blipFill>
          <a:blip r:embed="rId1"/>
          <a:srcRect l="20057" t="13146" r="19949" b="14381"/>
          <a:stretch/>
        </p:blipFill>
        <p:spPr>
          <a:xfrm>
            <a:off x="250920" y="981000"/>
            <a:ext cx="3697200" cy="5545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572000" y="1773360"/>
            <a:ext cx="4248000" cy="41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ормон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рийодтиронин (Т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Тетрайодтиронин (тироксин, Т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Тирокальцитонин</a:t>
            </a:r>
            <a:endParaRPr b="0" lang="en-US" sz="29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2600"/>
                </a:solidFill>
                <a:latin typeface="Arial Black"/>
              </a:rPr>
              <a:t>Гипер- и гипофункция</a:t>
            </a:r>
            <a:br>
              <a:rPr sz="4000"/>
            </a:br>
            <a:r>
              <a:rPr b="1" lang="ru-RU" sz="4000" spc="-1" strike="noStrike">
                <a:solidFill>
                  <a:srgbClr val="4c2600"/>
                </a:solidFill>
                <a:latin typeface="Arial Black"/>
              </a:rPr>
              <a:t>щитовидной желе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базедова болезнь 1"/>
          <p:cNvPicPr/>
          <p:nvPr/>
        </p:nvPicPr>
        <p:blipFill>
          <a:blip r:embed="rId1"/>
          <a:stretch/>
        </p:blipFill>
        <p:spPr>
          <a:xfrm>
            <a:off x="6348240" y="1484280"/>
            <a:ext cx="2795760" cy="4392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зоб"/>
          <p:cNvPicPr/>
          <p:nvPr/>
        </p:nvPicPr>
        <p:blipFill>
          <a:blip r:embed="rId2"/>
          <a:stretch/>
        </p:blipFill>
        <p:spPr>
          <a:xfrm>
            <a:off x="539640" y="1341360"/>
            <a:ext cx="2916360" cy="2448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rcRect l="3518" t="2799" r="3961" b="4575"/>
          <a:stretch/>
        </p:blipFill>
        <p:spPr>
          <a:xfrm>
            <a:off x="2411280" y="3976560"/>
            <a:ext cx="3600720" cy="2881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92360" y="1773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б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6237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кседем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5761080" cy="57610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Arial Black"/>
              </a:rPr>
              <a:t>Надпочеч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224000" cy="2089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5938920" y="1268280"/>
            <a:ext cx="320508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ормоны коркового вещест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 Глюкокортикоиды (кортизол, кортизон, кортикостерон)</a:t>
            </a:r>
            <a:endParaRPr b="0" lang="en-US" sz="17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Минералокортикоиды (альдостерон)</a:t>
            </a:r>
            <a:endParaRPr b="0" lang="en-US" sz="17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Половые (андрогены, эстрогены, немного прогестерона)</a:t>
            </a:r>
            <a:endParaRPr b="0" lang="en-US" sz="17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ормоны мозгового вещества (катехоламины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 Адреналин</a:t>
            </a:r>
            <a:endParaRPr b="0" lang="en-US" sz="17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Норадреналин</a:t>
            </a:r>
            <a:endParaRPr b="0" lang="en-US" sz="17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Arial Black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651640" y="1197000"/>
            <a:ext cx="3241440" cy="2271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0" t="1723" r="0" b="0"/>
          <a:stretch/>
        </p:blipFill>
        <p:spPr>
          <a:xfrm>
            <a:off x="0" y="765000"/>
            <a:ext cx="5219640" cy="408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4716360" cy="3068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5580000" y="663480"/>
            <a:ext cx="35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цинусы,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кретирующие панкреатический сок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013360"/>
            <a:ext cx="442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ормоны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Глюкагон (альфа-клетки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Инсулин (бета-клетки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Панкреатический соматостатин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ельта-клетки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анкреатический полипептид (РР-клетки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2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Arial Black"/>
              </a:rPr>
              <a:t>Половые жел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18508" t="27942" r="43701" b="27963"/>
          <a:stretch/>
        </p:blipFill>
        <p:spPr>
          <a:xfrm>
            <a:off x="4788000" y="981000"/>
            <a:ext cx="4105080" cy="374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2"/>
          <a:srcRect l="56303" t="27942" r="4323" b="27963"/>
          <a:stretch/>
        </p:blipFill>
        <p:spPr>
          <a:xfrm>
            <a:off x="250920" y="981000"/>
            <a:ext cx="4259160" cy="3729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8" name="Picture 7" descr="213"/>
          <p:cNvPicPr/>
          <p:nvPr/>
        </p:nvPicPr>
        <p:blipFill>
          <a:blip r:embed="rId3"/>
          <a:stretch/>
        </p:blipFill>
        <p:spPr>
          <a:xfrm>
            <a:off x="250920" y="549360"/>
            <a:ext cx="901440" cy="122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281"/>
          <p:cNvPicPr/>
          <p:nvPr/>
        </p:nvPicPr>
        <p:blipFill>
          <a:blip r:embed="rId4"/>
          <a:stretch/>
        </p:blipFill>
        <p:spPr>
          <a:xfrm>
            <a:off x="7927920" y="3933720"/>
            <a:ext cx="1216080" cy="1582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63480" y="4889520"/>
            <a:ext cx="50608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ужские гормоны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огены (тестостеро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Женские гормоны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строгены (эстрон, эстрадиол), прогестеро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Arial Black"/>
              </a:rPr>
              <a:t>Паращитовидные жел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11680" cy="580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975120" cy="580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Arial Black"/>
              </a:rPr>
              <a:t>Эпиф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58920" y="1182600"/>
            <a:ext cx="6049800" cy="5278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4427640" y="3573360"/>
            <a:ext cx="64764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de2804"/>
                </a:solidFill>
                <a:uFillTx/>
                <a:latin typeface="Arial"/>
              </a:rPr>
              <a:t>Желез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органы, вырабатывающие различ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280" y="5229360"/>
            <a:ext cx="79930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щества, выделяемые железой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– </a:t>
            </a:r>
            <a:r>
              <a:rPr b="0" i="1" lang="en-US" sz="2800" spc="-1" strike="noStrike" u="sng">
                <a:solidFill>
                  <a:srgbClr val="c82504"/>
                </a:solidFill>
                <a:uFillTx/>
                <a:latin typeface="Arial"/>
              </a:rPr>
              <a:t>секрет жел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62"/>
          <p:cNvPicPr/>
          <p:nvPr/>
        </p:nvPicPr>
        <p:blipFill>
          <a:blip r:embed="rId1"/>
          <a:stretch/>
        </p:blipFill>
        <p:spPr>
          <a:xfrm>
            <a:off x="971640" y="1916280"/>
            <a:ext cx="3311280" cy="309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98"/>
          <p:cNvPicPr/>
          <p:nvPr/>
        </p:nvPicPr>
        <p:blipFill>
          <a:blip r:embed="rId2"/>
          <a:stretch/>
        </p:blipFill>
        <p:spPr>
          <a:xfrm>
            <a:off x="5724360" y="1989000"/>
            <a:ext cx="20876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995640" y="4653000"/>
            <a:ext cx="140976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c2600"/>
                </a:solidFill>
                <a:latin typeface="Arial Black"/>
              </a:rPr>
              <a:t>Желез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349360"/>
            <a:ext cx="392436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41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секреции</a:t>
            </a:r>
            <a:endParaRPr b="0" lang="en-US" sz="41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100" spc="-1" strike="noStrike">
                <a:solidFill>
                  <a:srgbClr val="c82504"/>
                </a:solidFill>
                <a:latin typeface="Arial"/>
              </a:rPr>
              <a:t>экзо</a:t>
            </a: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кринные)</a:t>
            </a:r>
            <a:endParaRPr b="0" lang="en-US" sz="41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"/>
          <p:cNvSpPr/>
          <p:nvPr/>
        </p:nvSpPr>
        <p:spPr>
          <a:xfrm>
            <a:off x="5111640" y="2276640"/>
            <a:ext cx="403236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внутренней</a:t>
            </a:r>
            <a:endParaRPr b="0" lang="en-US" sz="41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секреции</a:t>
            </a:r>
            <a:endParaRPr b="0" lang="en-US" sz="41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100" spc="-1" strike="noStrike">
                <a:solidFill>
                  <a:srgbClr val="c82504"/>
                </a:solidFill>
                <a:latin typeface="Arial"/>
              </a:rPr>
              <a:t>эндо</a:t>
            </a: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кринные)</a:t>
            </a:r>
            <a:endParaRPr b="0" lang="en-US" sz="41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7" name=""/>
          <p:cNvSpPr/>
          <p:nvPr/>
        </p:nvSpPr>
        <p:spPr>
          <a:xfrm>
            <a:off x="2916360" y="5084640"/>
            <a:ext cx="316368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смешанной</a:t>
            </a:r>
            <a:endParaRPr b="0" lang="en-US" sz="41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секреции</a:t>
            </a:r>
            <a:endParaRPr b="0" lang="en-US" sz="41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1413000"/>
            <a:ext cx="935280" cy="1008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1413000"/>
            <a:ext cx="0" cy="374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"/>
          <p:cNvSpPr/>
          <p:nvPr/>
        </p:nvSpPr>
        <p:spPr>
          <a:xfrm>
            <a:off x="5796000" y="1413000"/>
            <a:ext cx="792000" cy="863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0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Arial Black"/>
              </a:rPr>
              <a:t>Железы внешней секреции</a:t>
            </a:r>
            <a:br>
              <a:rPr sz="4000"/>
            </a:br>
            <a:r>
              <a:rPr b="1" lang="en-US" sz="4000" spc="-1" strike="noStrike">
                <a:solidFill>
                  <a:srgbClr val="4c2600"/>
                </a:solidFill>
                <a:latin typeface="Arial Black"/>
              </a:rPr>
              <a:t>(экзокрин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45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меют специальные протоки для выведения секрета на поверхность тела или в полые орг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Слюнные железы"/>
          <p:cNvPicPr/>
          <p:nvPr/>
        </p:nvPicPr>
        <p:blipFill>
          <a:blip r:embed="rId1"/>
          <a:stretch/>
        </p:blipFill>
        <p:spPr>
          <a:xfrm>
            <a:off x="250920" y="2781360"/>
            <a:ext cx="4500360" cy="3744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железы желудка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Arial Black"/>
              </a:rPr>
              <a:t>Железы внутренней секреции (эндокрин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 имеют протоков, выделяют секрет в кровь. Секретируемые вещества – </a:t>
            </a:r>
            <a:r>
              <a:rPr b="1" i="1" lang="en-US" sz="3200" spc="-1" strike="noStrike" u="sng">
                <a:solidFill>
                  <a:srgbClr val="f11313"/>
                </a:solidFill>
                <a:uFillTx/>
                <a:latin typeface="Times New Roman"/>
              </a:rPr>
              <a:t>гормон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79640" y="2548080"/>
            <a:ext cx="532764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c2600"/>
                </a:solidFill>
                <a:latin typeface="Arial Black"/>
              </a:rPr>
              <a:t>Железы</a:t>
            </a:r>
            <a:br>
              <a:rPr sz="4000"/>
            </a:br>
            <a:r>
              <a:rPr b="0" lang="en-US" sz="4000" spc="-1" strike="noStrike">
                <a:solidFill>
                  <a:srgbClr val="4c2600"/>
                </a:solidFill>
                <a:latin typeface="Arial Black"/>
              </a:rPr>
              <a:t>смешанной секре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аботают одновременно как экзокринные и эндокринные желе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железы смеш"/>
          <p:cNvPicPr/>
          <p:nvPr/>
        </p:nvPicPr>
        <p:blipFill>
          <a:blip r:embed="rId1"/>
          <a:stretch/>
        </p:blipFill>
        <p:spPr>
          <a:xfrm>
            <a:off x="2268360" y="2546280"/>
            <a:ext cx="460872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Arial Black"/>
              </a:rPr>
              <a:t>Эндокринные желе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0" r="0" b="13893"/>
          <a:stretch/>
        </p:blipFill>
        <p:spPr>
          <a:xfrm>
            <a:off x="1979640" y="836640"/>
            <a:ext cx="5408640" cy="6021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58920" y="1052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"/>
          <p:cNvSpPr/>
          <p:nvPr/>
        </p:nvSpPr>
        <p:spPr>
          <a:xfrm>
            <a:off x="6156360" y="98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пифиз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3645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177336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306864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аращитовидные желез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"/>
          <p:cNvSpPr/>
          <p:nvPr/>
        </p:nvSpPr>
        <p:spPr>
          <a:xfrm>
            <a:off x="6516720" y="4221000"/>
            <a:ext cx="26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580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ичник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"/>
          <p:cNvSpPr/>
          <p:nvPr/>
        </p:nvSpPr>
        <p:spPr>
          <a:xfrm>
            <a:off x="6732720" y="59500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менник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c2600"/>
                </a:solidFill>
                <a:latin typeface="Arial Black"/>
              </a:rPr>
              <a:t>Гормо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353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36972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Биологическая акти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480" indent="36972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пецифичность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480" indent="36972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бласть воз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480" indent="36972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нформати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c2600"/>
                </a:solidFill>
                <a:latin typeface="Arial Black"/>
              </a:rPr>
              <a:t>Выделение</a:t>
            </a:r>
            <a:r>
              <a:rPr b="1" lang="en-US" sz="4800" spc="-1" strike="noStrike">
                <a:solidFill>
                  <a:srgbClr val="4c2600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4c2600"/>
                </a:solidFill>
                <a:latin typeface="Arial Black"/>
              </a:rPr>
              <a:t>секрет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3739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едостаточное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гипофункция</a:t>
            </a: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желез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збыточное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гиперфункция</a:t>
            </a: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желез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7:12:47Z</dcterms:created>
  <dc:creator>паша</dc:creator>
  <dc:description/>
  <dc:language>en-US</dc:language>
  <cp:lastModifiedBy>Павел</cp:lastModifiedBy>
  <dcterms:modified xsi:type="dcterms:W3CDTF">2012-11-07T17:42:43Z</dcterms:modified>
  <cp:revision>23</cp:revision>
  <dc:subject/>
  <dc:title>Слайд 1</dc:title>
</cp:coreProperties>
</file>