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DDA-2B45-4974-9700-6E7C7C85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974-5D26-4A73-B885-01E49242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6E1-FE49-4258-B38A-C337BC02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BA4-9B5F-420A-9B31-A96DEBA8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692-8F87-456F-A504-BFE66EE8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C8-F61C-4D7A-971D-74F913EE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7FC-ADB1-451F-9B4B-967582B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5CC-7060-46E9-B65A-E18EF540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3F2-22B7-4719-B9BF-A821368E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D3B-F5E3-4818-9D58-9DBADF4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48E-8FBB-48FB-B720-D2EFA31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99B-4E7A-41D3-9CE5-17F489A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4CC-ED0C-4CF8-A0D2-3272FA5E7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3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900" spc="-1" strike="noStrike">
                <a:solidFill>
                  <a:srgbClr val="000000"/>
                </a:solidFill>
                <a:latin typeface="Arial Unicode MS"/>
              </a:rPr>
              <a:t>Скелет туловища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Груд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3522" r="6803" b="3554"/>
          <a:stretch/>
        </p:blipFill>
        <p:spPr>
          <a:xfrm>
            <a:off x="2411280" y="836640"/>
            <a:ext cx="44611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Спасибо</a:t>
            </a:r>
            <a:br>
              <a:rPr sz="8800"/>
            </a:b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56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6911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Black"/>
              </a:rPr>
              <a:t>Позвоночный стол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0"/>
            <a:ext cx="3311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800" y="2793960"/>
            <a:ext cx="3461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Отде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йный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удной (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ясничный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естцовый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чиковый (4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5480" b="0"/>
          <a:stretch/>
        </p:blipFill>
        <p:spPr>
          <a:xfrm>
            <a:off x="4572000" y="2133720"/>
            <a:ext cx="4572000" cy="325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8987" r="0" b="5955"/>
          <a:stretch/>
        </p:blipFill>
        <p:spPr>
          <a:xfrm>
            <a:off x="0" y="1700280"/>
            <a:ext cx="4175280" cy="431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Black"/>
              </a:rPr>
              <a:t>Строение позво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640" y="12682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3800" y="623736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15636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воночное отвер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981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ист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ереч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700280"/>
            <a:ext cx="1008000" cy="172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84360" y="5013360"/>
            <a:ext cx="100800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16000" y="3860280"/>
            <a:ext cx="934920" cy="23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19640" y="3429000"/>
            <a:ext cx="792360" cy="24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300360" y="4724280"/>
            <a:ext cx="792360" cy="115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00" y="566100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жний суставн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90792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хний суставно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419280" y="3645000"/>
            <a:ext cx="1439640" cy="22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79640" y="1413000"/>
            <a:ext cx="151272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1413000"/>
            <a:ext cx="863280" cy="23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27640" y="1628640"/>
            <a:ext cx="432000" cy="100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1731960"/>
            <a:ext cx="4572000" cy="378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4500720" cy="2801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 Black"/>
              </a:rPr>
              <a:t>Атлант и эпистроф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69120" y="126828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теральные м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утренняя суставная поверх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12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59500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ереч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920" y="1628640"/>
            <a:ext cx="288720" cy="23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763640" y="4437000"/>
            <a:ext cx="43200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508720" y="4581360"/>
            <a:ext cx="1079280" cy="136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812000" y="4797000"/>
            <a:ext cx="216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5661000"/>
            <a:ext cx="25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жние суставные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90792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рхние суставные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851280" y="3933720"/>
            <a:ext cx="1008000" cy="194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1628640"/>
            <a:ext cx="503280" cy="237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1557360"/>
            <a:ext cx="180036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1628640"/>
            <a:ext cx="431640" cy="172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 Black"/>
              </a:rPr>
              <a:t>Соединение атланта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 Black"/>
              </a:rPr>
              <a:t>и эпистроф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17080" cy="4870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740720" y="5661000"/>
            <a:ext cx="11872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Особенности других позвон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843280" cy="239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95640" y="907920"/>
            <a:ext cx="340056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11742" r="0" b="5930"/>
          <a:stretch/>
        </p:blipFill>
        <p:spPr>
          <a:xfrm>
            <a:off x="395280" y="3860640"/>
            <a:ext cx="2730600" cy="27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rcRect l="0" t="24108" r="0" b="0"/>
          <a:stretch/>
        </p:blipFill>
        <p:spPr>
          <a:xfrm>
            <a:off x="3780000" y="4149720"/>
            <a:ext cx="2031840" cy="213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rcRect l="5005" t="13447" r="11216" b="10961"/>
          <a:stretch/>
        </p:blipFill>
        <p:spPr>
          <a:xfrm>
            <a:off x="6019920" y="342900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9079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е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9079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у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6461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ясн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623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п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3213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ест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Black"/>
              </a:rPr>
              <a:t>Соединение позвон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08360" y="1341360"/>
            <a:ext cx="3470400" cy="528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7286" t="0" r="5562" b="0"/>
          <a:stretch/>
        </p:blipFill>
        <p:spPr>
          <a:xfrm>
            <a:off x="0" y="1773360"/>
            <a:ext cx="3456000" cy="48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24000" y="981000"/>
            <a:ext cx="7920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Black"/>
              </a:rPr>
              <a:t>Грудная кл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63640" y="907920"/>
            <a:ext cx="5707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56000" y="1052640"/>
            <a:ext cx="4503960" cy="580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15576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Black"/>
              </a:rPr>
              <a:t>Р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21:38Z</dcterms:created>
  <dc:creator>Павел</dc:creator>
  <dc:description/>
  <dc:language>en-US</dc:language>
  <cp:lastModifiedBy>Павел</cp:lastModifiedBy>
  <dcterms:modified xsi:type="dcterms:W3CDTF">2011-10-31T09:30:18Z</dcterms:modified>
  <cp:revision>7</cp:revision>
  <dc:subject/>
  <dc:title>Слайд 1</dc:title>
</cp:coreProperties>
</file>