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1.gif" ContentType="image/gif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png" ContentType="image/png"/>
  <Override PartName="/ppt/media/image28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29B-61B3-4B40-A002-09345B70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5B7-FB49-4953-A49D-1D27BF9C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810-BF7A-4148-8C39-7FD12645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D6D-1EBD-481C-96B4-F901888D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1B8E-C3E4-4221-92FE-FF1B2515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E1B-1933-4349-9300-18EB667B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6F0-8BE0-43B6-A5AE-6665D2E9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46A-E11E-436B-A593-31E87426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40E-535A-4639-B09D-4107CA0A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BB1-7933-4680-BEC4-2779E593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4E2-2507-42A7-AD44-E66CD2C9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BD3-9567-4989-A9FC-F9E4D105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812E-3D92-4922-B69D-5FA24D19E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70"/>
                </a:solidFill>
                <a:latin typeface="Georgia"/>
              </a:rPr>
              <a:t>Питание </a:t>
            </a:r>
            <a:r>
              <a:rPr b="1" i="1" lang="en-US" sz="7200" spc="-1" strike="noStrike">
                <a:solidFill>
                  <a:srgbClr val="000070"/>
                </a:solidFill>
                <a:latin typeface="Georgia"/>
              </a:rPr>
              <a:t> </a:t>
            </a:r>
            <a:r>
              <a:rPr b="1" i="1" lang="ru-RU" sz="7200" spc="-1" strike="noStrike">
                <a:solidFill>
                  <a:srgbClr val="000070"/>
                </a:solidFill>
                <a:latin typeface="Georgia"/>
              </a:rPr>
              <a:t>и пищеваре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3933720"/>
            <a:ext cx="199728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97a"/>
                </a:solidFill>
                <a:latin typeface="Georgia"/>
              </a:rPr>
              <a:t>Строение зу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8826" r="0" b="0"/>
          <a:stretch/>
        </p:blipFill>
        <p:spPr>
          <a:xfrm>
            <a:off x="2411280" y="1052640"/>
            <a:ext cx="4321440" cy="580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7166520" y="162864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н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6880" y="1700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м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10520" y="54450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3080" y="422100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ль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1989000"/>
            <a:ext cx="1800360" cy="36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979640" y="3933720"/>
            <a:ext cx="1871640" cy="503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284360" y="1844640"/>
            <a:ext cx="2879640" cy="1513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4067280" y="4869000"/>
            <a:ext cx="3241440" cy="79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97a"/>
                </a:solidFill>
                <a:latin typeface="Georgia"/>
              </a:rPr>
              <a:t>Виды зу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4546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1800" indent="-631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ло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2933" b="0"/>
          <a:stretch/>
        </p:blipFill>
        <p:spPr>
          <a:xfrm>
            <a:off x="5700600" y="981000"/>
            <a:ext cx="3443400" cy="587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2824200"/>
            <a:ext cx="5435640" cy="3021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5813280"/>
            <a:ext cx="5435640" cy="104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18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97a"/>
                </a:solidFill>
                <a:latin typeface="Georgia"/>
              </a:rPr>
              <a:t>Слюнные</a:t>
            </a:r>
            <a:r>
              <a:rPr b="1" i="1" lang="en-US" sz="4400" spc="-1" strike="noStrike">
                <a:solidFill>
                  <a:srgbClr val="00297a"/>
                </a:solidFill>
                <a:latin typeface="Georgia"/>
              </a:rPr>
              <a:t> желе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836640"/>
            <a:ext cx="25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ав слю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ми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изоц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лизь (муц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54560" y="1519200"/>
            <a:ext cx="5689440" cy="5338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269120" y="836640"/>
            <a:ext cx="187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колоушная желе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380000" y="1557360"/>
            <a:ext cx="360360" cy="165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24360" y="836640"/>
            <a:ext cx="280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ток околоушной желе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8360" y="1268280"/>
            <a:ext cx="863640" cy="208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62373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нижнечелюстная желе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51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ъязычная желе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3284640"/>
            <a:ext cx="280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токи подъязычной желе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4221000"/>
            <a:ext cx="280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ток поднижнечелюстной желе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348000" y="5445000"/>
            <a:ext cx="2592360" cy="9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843280" y="5300640"/>
            <a:ext cx="2233440" cy="43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4653000"/>
            <a:ext cx="208764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6000" y="3716280"/>
            <a:ext cx="2522520" cy="1154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18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97a"/>
                </a:solidFill>
                <a:latin typeface="Georgia"/>
              </a:rPr>
              <a:t>Глотка и пище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7909" t="1167" r="0" b="963"/>
          <a:stretch/>
        </p:blipFill>
        <p:spPr>
          <a:xfrm>
            <a:off x="6981840" y="836640"/>
            <a:ext cx="2162160" cy="554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6129" t="0" r="6037" b="0"/>
          <a:stretch/>
        </p:blipFill>
        <p:spPr>
          <a:xfrm>
            <a:off x="3564000" y="1557360"/>
            <a:ext cx="3095640" cy="4286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1557360"/>
            <a:ext cx="3311640" cy="437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7311600" y="64864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ище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99600" y="5950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отка (вид сза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3240" y="602136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отка (вид спра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97a"/>
                </a:solidFill>
                <a:latin typeface="Georgia"/>
              </a:rPr>
              <a:t>Желуд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3236" t="0" r="0" b="0"/>
          <a:stretch/>
        </p:blipFill>
        <p:spPr>
          <a:xfrm>
            <a:off x="4643280" y="2060640"/>
            <a:ext cx="4278600" cy="4508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2"/>
          <a:srcRect l="2400" t="53353" r="2363" b="9340"/>
          <a:stretch/>
        </p:blipFill>
        <p:spPr>
          <a:xfrm>
            <a:off x="250920" y="4454640"/>
            <a:ext cx="4032000" cy="2403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26920" y="4005360"/>
            <a:ext cx="258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изистая желу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125360"/>
            <a:ext cx="511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 желудочного с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псиноген </a:t>
            </a:r>
            <a:r>
              <a:rPr b="0" i="1" lang="ru-RU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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епс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п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ля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и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97a"/>
                </a:solidFill>
                <a:latin typeface="Georgia"/>
              </a:rPr>
              <a:t>Кишеч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3051" t="3874" r="2295" b="0"/>
          <a:stretch/>
        </p:blipFill>
        <p:spPr>
          <a:xfrm>
            <a:off x="755640" y="1052640"/>
            <a:ext cx="4822920" cy="580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6228360" y="21337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нк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335772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лст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176360" y="3645000"/>
            <a:ext cx="2050920" cy="158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564000" y="2421000"/>
            <a:ext cx="2736720" cy="187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97a"/>
                </a:solidFill>
                <a:latin typeface="Georgia"/>
              </a:rPr>
              <a:t>Тонкий кишеч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3051" t="3874" r="2295" b="0"/>
          <a:stretch/>
        </p:blipFill>
        <p:spPr>
          <a:xfrm>
            <a:off x="2050920" y="1052640"/>
            <a:ext cx="4822920" cy="580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7092000" y="285264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щая ки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602136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вздошная ки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268360" y="4869000"/>
            <a:ext cx="2087640" cy="129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572000" y="3141720"/>
            <a:ext cx="2448000" cy="93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26828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енадцатиперстная ки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63640" y="1846440"/>
            <a:ext cx="1584360" cy="790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86040" indent="0" algn="ctr">
              <a:lnSpc>
                <a:spcPct val="10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97a"/>
                </a:solidFill>
                <a:latin typeface="Georgia"/>
              </a:rPr>
              <a:t>Двенадцатиперстная ки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>
            <a:lum contrast="6000"/>
          </a:blip>
          <a:srcRect l="4120" t="1918" r="3422" b="0"/>
          <a:stretch/>
        </p:blipFill>
        <p:spPr>
          <a:xfrm>
            <a:off x="2195640" y="836640"/>
            <a:ext cx="6948360" cy="5369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2492280" cy="256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684360" y="105264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ч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09080" y="623736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9890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лчный пуз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1341360"/>
            <a:ext cx="1657080" cy="862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92360" y="2565360"/>
            <a:ext cx="1727280" cy="1295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6661080" y="5227200"/>
            <a:ext cx="216000" cy="1009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651640" y="1052640"/>
            <a:ext cx="3241440" cy="2271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4572000" cy="3638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427640" y="3789360"/>
            <a:ext cx="4716360" cy="3068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064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786040" indent="0" algn="ctr">
              <a:lnSpc>
                <a:spcPct val="10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97a"/>
                </a:solidFill>
                <a:latin typeface="Georgia"/>
              </a:rPr>
              <a:t>Поджелудочная жел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4723920"/>
            <a:ext cx="3527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т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нкреатического с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мил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рипс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ип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52388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97a"/>
                </a:solidFill>
                <a:latin typeface="Georgia"/>
              </a:rPr>
              <a:t>Тонкий кишеч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76520" y="836640"/>
            <a:ext cx="7467480" cy="5295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2"/>
          <a:srcRect l="3051" t="3874" r="2295" b="0"/>
          <a:stretch/>
        </p:blipFill>
        <p:spPr>
          <a:xfrm>
            <a:off x="0" y="4076640"/>
            <a:ext cx="2309760" cy="2781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1" name=""/>
          <p:cNvSpPr/>
          <p:nvPr/>
        </p:nvSpPr>
        <p:spPr>
          <a:xfrm flipH="1" flipV="1">
            <a:off x="6084360" y="3357720"/>
            <a:ext cx="1582920" cy="151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80360" y="5013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рс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162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изистая обо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47640" y="2205000"/>
            <a:ext cx="129564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54936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7a"/>
                </a:solidFill>
                <a:latin typeface="Georgia"/>
              </a:rPr>
              <a:t>В чем состоит значение питан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99200" y="391320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2708280"/>
            <a:ext cx="813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7a"/>
                </a:solidFill>
                <a:latin typeface="Georgia"/>
              </a:rPr>
              <a:t>Какие системы обеспечивают питани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52877" t="0" r="0" b="18932"/>
          <a:stretch/>
        </p:blipFill>
        <p:spPr>
          <a:xfrm>
            <a:off x="216000" y="3573360"/>
            <a:ext cx="2546280" cy="3284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97a"/>
                </a:solidFill>
                <a:latin typeface="Georgia"/>
              </a:rPr>
              <a:t>Толстый кишеч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21252" t="0" r="17858" b="0"/>
          <a:stretch/>
        </p:blipFill>
        <p:spPr>
          <a:xfrm>
            <a:off x="2916360" y="981000"/>
            <a:ext cx="4776840" cy="587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8" name=""/>
          <p:cNvSpPr/>
          <p:nvPr/>
        </p:nvSpPr>
        <p:spPr>
          <a:xfrm>
            <a:off x="7883640" y="5805360"/>
            <a:ext cx="12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ямая ки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105264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одочная ки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87280" y="3213000"/>
            <a:ext cx="432000" cy="216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363640" y="6093000"/>
            <a:ext cx="2519640" cy="14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6000" y="242100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епая кишка с аппендик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3213000"/>
            <a:ext cx="2089080" cy="187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2720" y="1557360"/>
            <a:ext cx="2735280" cy="180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297a"/>
                </a:solidFill>
                <a:latin typeface="Georgia"/>
              </a:rPr>
              <a:t>Спасибо</a:t>
            </a:r>
            <a:br>
              <a:rPr sz="7200"/>
            </a:br>
            <a:r>
              <a:rPr b="1" i="1" lang="en-US" sz="7200" spc="-1" strike="noStrike">
                <a:solidFill>
                  <a:srgbClr val="00297a"/>
                </a:solidFill>
                <a:latin typeface="Georgia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297a"/>
                </a:solidFill>
                <a:latin typeface="Georgia"/>
              </a:rPr>
              <a:t>Обеспечение питания на разных уровн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80000" y="3573360"/>
            <a:ext cx="1430280" cy="2009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животная клетка"/>
          <p:cNvPicPr/>
          <p:nvPr/>
        </p:nvPicPr>
        <p:blipFill>
          <a:blip r:embed="rId2"/>
          <a:srcRect l="22533" t="0" r="27068" b="0"/>
          <a:stretch/>
        </p:blipFill>
        <p:spPr>
          <a:xfrm>
            <a:off x="611280" y="3500280"/>
            <a:ext cx="1584360" cy="1943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962360" cy="2592360"/>
          </a:xfrm>
          <a:prstGeom prst="rect">
            <a:avLst/>
          </a:prstGeom>
          <a:ln w="0">
            <a:noFill/>
          </a:ln>
        </p:spPr>
      </p:pic>
      <p:sp>
        <p:nvSpPr>
          <p:cNvPr id="50" name="Line 25"/>
          <p:cNvSpPr/>
          <p:nvPr/>
        </p:nvSpPr>
        <p:spPr>
          <a:xfrm flipH="1">
            <a:off x="2339640" y="4508640"/>
            <a:ext cx="93492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6"/>
          <p:cNvSpPr/>
          <p:nvPr/>
        </p:nvSpPr>
        <p:spPr>
          <a:xfrm flipH="1">
            <a:off x="5651640" y="4437000"/>
            <a:ext cx="10080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6"/>
          <p:cNvSpPr/>
          <p:nvPr/>
        </p:nvSpPr>
        <p:spPr>
          <a:xfrm>
            <a:off x="684360" y="5373720"/>
            <a:ext cx="1584000" cy="148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Т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7"/>
          <p:cNvSpPr/>
          <p:nvPr/>
        </p:nvSpPr>
        <p:spPr>
          <a:xfrm>
            <a:off x="3851280" y="5516640"/>
            <a:ext cx="1359000" cy="13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ров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8"/>
          <p:cNvSpPr/>
          <p:nvPr/>
        </p:nvSpPr>
        <p:spPr>
          <a:xfrm>
            <a:off x="7236000" y="5418000"/>
            <a:ext cx="158400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лу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обработка органически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з внешней сре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276720" y="476280"/>
            <a:ext cx="1123920" cy="2305080"/>
          </a:xfrm>
          <a:prstGeom prst="rect">
            <a:avLst/>
          </a:prstGeom>
          <a:ln w="0">
            <a:noFill/>
          </a:ln>
        </p:spPr>
      </p:pic>
      <p:sp>
        <p:nvSpPr>
          <p:cNvPr id="56" name="Скругленный прямоугольник 7"/>
          <p:cNvSpPr/>
          <p:nvPr/>
        </p:nvSpPr>
        <p:spPr>
          <a:xfrm>
            <a:off x="4284720" y="907920"/>
            <a:ext cx="1657440" cy="134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йро-гуморальная регуля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6"/>
          <p:cNvSpPr/>
          <p:nvPr/>
        </p:nvSpPr>
        <p:spPr>
          <a:xfrm flipH="1">
            <a:off x="2050920" y="2133720"/>
            <a:ext cx="648000" cy="863640"/>
          </a:xfrm>
          <a:prstGeom prst="line">
            <a:avLst/>
          </a:prstGeom>
          <a:ln w="889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6227640" y="2133720"/>
            <a:ext cx="792360" cy="790560"/>
          </a:xfrm>
          <a:prstGeom prst="line">
            <a:avLst/>
          </a:prstGeom>
          <a:ln w="889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6"/>
          <p:cNvSpPr/>
          <p:nvPr/>
        </p:nvSpPr>
        <p:spPr>
          <a:xfrm>
            <a:off x="4427640" y="2492280"/>
            <a:ext cx="0" cy="865440"/>
          </a:xfrm>
          <a:prstGeom prst="line">
            <a:avLst/>
          </a:prstGeom>
          <a:ln w="889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549360"/>
            <a:ext cx="8137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7a"/>
                </a:solidFill>
                <a:latin typeface="Georgia"/>
              </a:rPr>
              <a:t>Что такое пищеварение, почему оно необходим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99200" y="3913200"/>
            <a:ext cx="2944800" cy="29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2421000"/>
            <a:ext cx="8217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0"/>
                </a:solidFill>
                <a:latin typeface="Georgia"/>
              </a:rPr>
              <a:t>Пищеваритель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0"/>
                </a:solidFill>
                <a:latin typeface="Georgia"/>
              </a:rPr>
              <a:t>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340000" y="4005360"/>
            <a:ext cx="936720" cy="12240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2000" y="5278320"/>
            <a:ext cx="421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ищевар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47840" y="5300640"/>
            <a:ext cx="419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ищевар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желе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6908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0"/>
                </a:solidFill>
                <a:latin typeface="Georgia"/>
              </a:rPr>
              <a:t>Пищеварени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– процесс механической и химической обработки пи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0360" y="4005360"/>
            <a:ext cx="936720" cy="12240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62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97a"/>
                </a:solidFill>
                <a:latin typeface="Georgia"/>
              </a:rPr>
              <a:t>Пищеварительный кан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30840" y="836640"/>
            <a:ext cx="4038480" cy="6021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907920"/>
            <a:ext cx="3592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отовое отверс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628640"/>
            <a:ext cx="32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отовая по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3440" y="249228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л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8720" y="3357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ище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9440" y="42926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елу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1440" y="51577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ишеч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6021360"/>
            <a:ext cx="37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нальное отверс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556000" y="1483920"/>
            <a:ext cx="4321080" cy="1297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348000" y="1196640"/>
            <a:ext cx="3168720" cy="647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627280" y="2923920"/>
            <a:ext cx="4176720" cy="647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27280" y="4508640"/>
            <a:ext cx="4465800" cy="215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43280" y="5373720"/>
            <a:ext cx="3816360" cy="287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1268280"/>
            <a:ext cx="0" cy="36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2133720"/>
            <a:ext cx="0" cy="36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2997360"/>
            <a:ext cx="0" cy="36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3933720"/>
            <a:ext cx="0" cy="36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4869000"/>
            <a:ext cx="0" cy="36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5661000"/>
            <a:ext cx="0" cy="36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62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97a"/>
                </a:solidFill>
                <a:latin typeface="Georgia"/>
              </a:rPr>
              <a:t>Стенка</a:t>
            </a:r>
            <a:br>
              <a:rPr sz="4000"/>
            </a:br>
            <a:r>
              <a:rPr b="1" i="1" lang="en-US" sz="4000" spc="-1" strike="noStrike">
                <a:solidFill>
                  <a:srgbClr val="00297a"/>
                </a:solidFill>
                <a:latin typeface="Georgia"/>
              </a:rPr>
              <a:t>пищеварительного кан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357720"/>
            <a:ext cx="4248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2276640"/>
            <a:ext cx="48243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4468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46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единительнотк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468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468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шечный с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468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дслизистый с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468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пителиальный слой (слизист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54640" y="1773360"/>
            <a:ext cx="363204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97a"/>
                </a:solidFill>
                <a:latin typeface="Georgia"/>
              </a:rPr>
              <a:t>Пищеварительные желе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41640" cy="5877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 flipV="1">
            <a:off x="2556000" y="1341000"/>
            <a:ext cx="2520720" cy="358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4880" y="148428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люнные 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86160" y="25653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34160" y="4797360"/>
            <a:ext cx="37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68520" y="3789360"/>
            <a:ext cx="3440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елезы желу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3440" y="5805360"/>
            <a:ext cx="3829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елезы кишеч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34920" y="1700280"/>
            <a:ext cx="3313080" cy="73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19280" y="2781360"/>
            <a:ext cx="4392720" cy="151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339640" y="5013360"/>
            <a:ext cx="2592360" cy="14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555640" y="4005360"/>
            <a:ext cx="2879640" cy="647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268000" y="6021360"/>
            <a:ext cx="3024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7a"/>
                </a:solidFill>
                <a:latin typeface="Georgia"/>
              </a:rPr>
              <a:t>Ротовая пол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4475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ехан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им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356000" y="1268280"/>
            <a:ext cx="4579920" cy="518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6:44:30Z</dcterms:created>
  <dc:creator>Васильев П.А.</dc:creator>
  <dc:description/>
  <dc:language>en-US</dc:language>
  <cp:lastModifiedBy>Павел</cp:lastModifiedBy>
  <dcterms:modified xsi:type="dcterms:W3CDTF">2013-04-08T10:06:09Z</dcterms:modified>
  <cp:revision>22</cp:revision>
  <dc:subject/>
  <dc:title>Пищеварительная система</dc:title>
</cp:coreProperties>
</file>