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F0A-EB33-4311-B6E5-9C359847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6C7-C9DA-415E-8054-F8ABD40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FFD-CF87-4A91-BC5F-C818DB88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30C-2919-4F88-A587-F3ECE3C4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F0F-3F97-49F0-B378-AD1C8A7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C1E-661C-4F99-BA4C-EE4A0D7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6EA-5C75-490C-8F1C-64AFF9D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76-AC64-4AC2-8AE3-83DAEF23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45-A237-4A60-8959-ABAC2CA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5D6-EF17-4A65-B7C7-13C29CD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24D-7FA6-4B4F-B413-CA06F35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B06-5649-4A77-BEAF-F36D539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250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795-0F3B-4256-A812-1D40695C68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9640" y="3627360"/>
            <a:ext cx="3635280" cy="323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c2600"/>
                </a:solidFill>
                <a:latin typeface="Georgia"/>
              </a:rPr>
              <a:t>Кровеносные сосуды</a:t>
            </a:r>
            <a:endParaRPr b="0" lang="en-US" sz="8000" spc="-1" strike="noStrike">
              <a:solidFill>
                <a:srgbClr val="3025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0"/>
            <a:ext cx="85168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c2600"/>
                </a:solidFill>
                <a:latin typeface="Georgia"/>
              </a:rPr>
              <a:t>Кровеносные</a:t>
            </a:r>
            <a:r>
              <a:rPr b="1" i="1" lang="en-US" sz="5400" spc="-1" strike="noStrike">
                <a:solidFill>
                  <a:srgbClr val="4c26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4c2600"/>
                </a:solidFill>
                <a:latin typeface="Georgia"/>
              </a:rPr>
              <a:t>сосуды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2880" y="2803680"/>
            <a:ext cx="232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тер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2852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18920" y="1197000"/>
            <a:ext cx="1152360" cy="1584360"/>
          </a:xfrm>
          <a:prstGeom prst="line">
            <a:avLst/>
          </a:prstGeom>
          <a:ln w="69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1197000"/>
            <a:ext cx="1081080" cy="1655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365720"/>
            <a:ext cx="838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циркуляторного русл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артериолы, капилляры, венулы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97000"/>
            <a:ext cx="0" cy="3097080"/>
          </a:xfrm>
          <a:prstGeom prst="line">
            <a:avLst/>
          </a:prstGeom>
          <a:ln w="69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44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0"/>
            <a:ext cx="85899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2600"/>
                </a:solidFill>
                <a:latin typeface="Georgia"/>
              </a:rPr>
              <a:t>Строение стенки сосу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6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4c2600"/>
                </a:solidFill>
                <a:latin typeface="Georgia"/>
              </a:rPr>
              <a:t>Кровоснабжение тела</a:t>
            </a:r>
            <a:br>
              <a:rPr sz="6600"/>
            </a:br>
            <a:r>
              <a:rPr b="1" i="1" lang="en-US" sz="6600" spc="-1" strike="noStrike">
                <a:solidFill>
                  <a:srgbClr val="4c2600"/>
                </a:solidFill>
                <a:latin typeface="Georgia"/>
              </a:rPr>
              <a:t>человека</a:t>
            </a:r>
            <a:endParaRPr b="0" lang="en-US" sz="6600" spc="-1" strike="noStrike">
              <a:solidFill>
                <a:srgbClr val="3025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56000" y="63360"/>
            <a:ext cx="4788000" cy="6794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56167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2600"/>
                </a:solidFill>
                <a:latin typeface="Georgia"/>
              </a:rPr>
              <a:t>Движение крови</a:t>
            </a:r>
            <a:br>
              <a:rPr sz="4400"/>
            </a:br>
            <a:r>
              <a:rPr b="1" i="1" lang="en-US" sz="4400" spc="-1" strike="noStrike">
                <a:solidFill>
                  <a:srgbClr val="4c2600"/>
                </a:solidFill>
                <a:latin typeface="Georgia"/>
              </a:rPr>
              <a:t>в организме</a:t>
            </a: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ьшой круг кровообращ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ый круг кровообращения (легочный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дечный круг кровообращ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754200"/>
            <a:ext cx="6330960" cy="6103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Georgia"/>
              </a:rPr>
              <a:t>Малый круг кровообращения</a:t>
            </a:r>
            <a:endParaRPr b="0" lang="en-US" sz="3600" spc="-1" strike="noStrike">
              <a:solidFill>
                <a:srgbClr val="3025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Georgia"/>
              </a:rPr>
              <a:t>Большой круг кровообращения</a:t>
            </a:r>
            <a:endParaRPr b="0" lang="en-US" sz="3600" spc="-1" strike="noStrike">
              <a:solidFill>
                <a:srgbClr val="30250e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5487" t="0" r="7883" b="0"/>
          <a:stretch/>
        </p:blipFill>
        <p:spPr>
          <a:xfrm>
            <a:off x="0" y="1700280"/>
            <a:ext cx="4626000" cy="515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9579" t="0" r="10752" b="0"/>
          <a:stretch/>
        </p:blipFill>
        <p:spPr>
          <a:xfrm>
            <a:off x="4716360" y="1557360"/>
            <a:ext cx="4427640" cy="5300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52680" y="7650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тер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3658" t="0" r="22111" b="0"/>
          <a:stretch/>
        </p:blipFill>
        <p:spPr>
          <a:xfrm>
            <a:off x="0" y="1413000"/>
            <a:ext cx="3995640" cy="544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Georgia"/>
              </a:rPr>
              <a:t>Большой круг кровообращения</a:t>
            </a:r>
            <a:endParaRPr b="0" lang="en-US" sz="36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9800" y="765000"/>
            <a:ext cx="11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9455" t="0" r="12565" b="0"/>
          <a:stretch/>
        </p:blipFill>
        <p:spPr>
          <a:xfrm>
            <a:off x="4680000" y="1382760"/>
            <a:ext cx="446400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95640" y="1773000"/>
            <a:ext cx="482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4c2600"/>
                </a:solidFill>
                <a:latin typeface="Georgia"/>
              </a:rPr>
              <a:t>Конец</a:t>
            </a:r>
            <a:endParaRPr b="0" lang="en-US" sz="8800" spc="-1" strike="noStrike">
              <a:solidFill>
                <a:srgbClr val="30250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49:25Z</dcterms:created>
  <dc:creator>Васильев П.А.</dc:creator>
  <dc:description/>
  <dc:language>en-US</dc:language>
  <cp:lastModifiedBy>Павел</cp:lastModifiedBy>
  <dcterms:modified xsi:type="dcterms:W3CDTF">2011-11-13T22:24:56Z</dcterms:modified>
  <cp:revision>30</cp:revision>
  <dc:subject/>
  <dc:title>Внутренняя среда организма</dc:title>
</cp:coreProperties>
</file>