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75E7-BE57-4BAE-B47D-F08879F5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1DC-893F-41FD-BBCA-004F4580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B1E-7D47-4BD9-9F3B-64E00044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F68-5103-4573-92E9-662D2C06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DA4-D919-4356-A237-8156DB9A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66C1-1E6E-4C6E-B4D7-8CB5F5C1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A0A-2ABB-4231-A8A9-7E953287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C11-9F2F-4022-89F7-EE1B8518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4A4-EDDC-4DF8-9BE2-A7CFCE38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F52-BC74-4761-8758-4346ECF3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A6C-C910-45F6-8C58-B83D8952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8E2-2517-4D0C-8D97-686EC10F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1E68-C75D-49EC-9A70-B13042D9E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940360" y="2205000"/>
            <a:ext cx="2813040" cy="465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416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Лимфатическая систе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Функция лимфатическ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5805360"/>
            <a:ext cx="85690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каневая жидкость собирается в лимфатические капилляры и становится лимфой, которая затем фильтруется и возвращается в кровяное ру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626436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троение лимфатическ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89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167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мфатические капилля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7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мфатические сос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7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мфатические уз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7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мфатические ств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7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мфатические прот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08720" y="1052640"/>
            <a:ext cx="33829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5076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Лимфатический капилля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95640" y="5661000"/>
            <a:ext cx="48974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Лимфатический уз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88000" y="2217600"/>
            <a:ext cx="4356000" cy="3351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413000"/>
            <a:ext cx="4500720" cy="3030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Лимфатические прото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0" r="6337" b="0"/>
          <a:stretch/>
        </p:blipFill>
        <p:spPr>
          <a:xfrm>
            <a:off x="3276720" y="1125360"/>
            <a:ext cx="2735280" cy="5445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1125360"/>
            <a:ext cx="2924280" cy="2951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330960" y="1125360"/>
            <a:ext cx="2813040" cy="302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V="1">
            <a:off x="971640" y="2636640"/>
            <a:ext cx="647640" cy="2376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876720" y="2997000"/>
            <a:ext cx="863640" cy="1944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2708280"/>
            <a:ext cx="2016360" cy="0"/>
          </a:xfrm>
          <a:prstGeom prst="line">
            <a:avLst/>
          </a:prstGeom>
          <a:ln w="82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2708280"/>
            <a:ext cx="1368360" cy="0"/>
          </a:xfrm>
          <a:prstGeom prst="line">
            <a:avLst/>
          </a:prstGeom>
          <a:ln w="82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084640"/>
            <a:ext cx="252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авый лимфатический пр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22920" y="5084640"/>
            <a:ext cx="25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рудной лимфатический пр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Arial"/>
              </a:rPr>
              <a:t>Спасибо</a:t>
            </a:r>
            <a:br>
              <a:rPr sz="8000"/>
            </a:br>
            <a:r>
              <a:rPr b="1" i="1" lang="en-US" sz="8000" spc="-1" strike="noStrike">
                <a:solidFill>
                  <a:srgbClr val="ff0000"/>
                </a:solidFill>
                <a:latin typeface="Arial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20:48:35Z</dcterms:created>
  <dc:creator>Павел</dc:creator>
  <dc:description/>
  <dc:language>en-US</dc:language>
  <cp:lastModifiedBy>Павел</cp:lastModifiedBy>
  <dcterms:modified xsi:type="dcterms:W3CDTF">2011-11-17T21:22:55Z</dcterms:modified>
  <cp:revision>2</cp:revision>
  <dc:subject/>
  <dc:title>Лимфатическая система</dc:title>
</cp:coreProperties>
</file>