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A0A-24F2-40C6-A2FB-AE47DECAC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C618-9A6E-4159-BD72-86260E74D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F97-4C3D-4BB7-A4CC-C4E2D63AB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6D00-C251-48EA-87E2-78FE0EF1E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B84-9EEE-47E2-B4C5-B2B067A5B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319-8353-485E-8A57-591AA9FCA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012E-3270-4DC9-9A11-AF665AE00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B6B-1865-4050-88DC-6799B87BC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777-DB2C-4BBA-B298-1852B18C3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2A2-CBA8-4C1F-9EAB-9141740FD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0F5-D756-49F6-B6A0-9C6DEEB90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ACF-B141-4856-8FA9-B70D72423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CA8-FD5F-4C46-9AAE-D62C3855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DFD-A307-4DD0-9B2F-F58E1064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456-107D-44D2-B3C4-D4E92BF6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22A-D227-4030-AF48-B58B4DC6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213-1F6B-49F8-81CA-18A4362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4AA-2847-454A-883F-7B64A058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948-E93E-4DB1-859E-61642CF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9CA-B8E0-4DDC-82AB-A4D2C64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296-E1BF-4ABE-93E6-F1113D56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558-12B5-4945-8777-2C74F7F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03D-1671-4D14-9DAE-A4BDB28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4AD-F872-46F1-AB98-B607A24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657-FE40-4419-87D2-D35749AC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73692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214200"/>
                </a:solidFill>
                <a:latin typeface="Arial Black"/>
              </a:rPr>
              <a:t>Головной</a:t>
            </a:r>
            <a:br>
              <a:rPr sz="8000"/>
            </a:br>
            <a:r>
              <a:rPr b="0" i="1" lang="en-US" sz="8000" spc="-1" strike="noStrike">
                <a:solidFill>
                  <a:srgbClr val="214200"/>
                </a:solidFill>
                <a:latin typeface="Arial Black"/>
              </a:rPr>
              <a:t>          моз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291821754_rugomer_320x480"/>
          <p:cNvPicPr/>
          <p:nvPr/>
        </p:nvPicPr>
        <p:blipFill>
          <a:blip r:embed="rId1"/>
          <a:srcRect l="0" t="5181" r="0" b="5213"/>
          <a:stretch/>
        </p:blipFill>
        <p:spPr>
          <a:xfrm>
            <a:off x="611280" y="3284640"/>
            <a:ext cx="26589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14200"/>
                </a:solidFill>
                <a:latin typeface="Arial Black"/>
              </a:rPr>
              <a:t>IV </a:t>
            </a:r>
            <a:r>
              <a:rPr b="0" i="1" lang="ru-RU" sz="5400" spc="-1" strike="noStrike">
                <a:solidFill>
                  <a:srgbClr val="214200"/>
                </a:solidFill>
                <a:latin typeface="Arial Black"/>
              </a:rPr>
              <a:t>желудоч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ромбовидная ямка"/>
          <p:cNvPicPr/>
          <p:nvPr/>
        </p:nvPicPr>
        <p:blipFill>
          <a:blip r:embed="rId1"/>
          <a:srcRect l="6472" t="8028" r="6113" b="2562"/>
          <a:stretch/>
        </p:blipFill>
        <p:spPr>
          <a:xfrm>
            <a:off x="2268360" y="1052640"/>
            <a:ext cx="5634360" cy="5805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50920" y="566100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бовидная ямка (д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удоч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1908000" y="4292280"/>
            <a:ext cx="23036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3492360" y="3141720"/>
            <a:ext cx="1800360" cy="2087640"/>
          </a:xfrm>
          <a:prstGeom prst="diamond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V="1">
            <a:off x="1763640" y="2420640"/>
            <a:ext cx="2376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6084360" y="314172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4500360" y="5950080"/>
            <a:ext cx="1871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160" y="3068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верохолм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480000" y="60357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7470360" y="25653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14200"/>
                </a:solidFill>
                <a:latin typeface="Arial Black"/>
              </a:rPr>
              <a:t>Черепные нер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E:\12 moždanih цйцй.jpg"/>
          <p:cNvPicPr/>
          <p:nvPr/>
        </p:nvPicPr>
        <p:blipFill>
          <a:blip r:embed="rId1"/>
          <a:stretch/>
        </p:blipFill>
        <p:spPr>
          <a:xfrm>
            <a:off x="3071880" y="839880"/>
            <a:ext cx="2786040" cy="60181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6215040" y="100008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онятельный нерв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4786200" y="1214280"/>
            <a:ext cx="150048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14200" y="171468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рительный нерв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2500200" y="2071800"/>
            <a:ext cx="164304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4928760" y="2997360"/>
            <a:ext cx="101124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940360" y="278604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зодвигательный нерв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215040" y="314316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оковый нерв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5214960" y="3357720"/>
            <a:ext cx="100008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571840" y="3643200"/>
            <a:ext cx="100008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2500200" y="4071960"/>
            <a:ext cx="1714680" cy="3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2500200" y="4500720"/>
            <a:ext cx="1571760" cy="1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2643120" y="4803840"/>
            <a:ext cx="135756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5143680" y="4714920"/>
            <a:ext cx="1071360" cy="30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H="1">
            <a:off x="5214600" y="5000760"/>
            <a:ext cx="1143000" cy="30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071680" y="5518080"/>
            <a:ext cx="114300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4928760" y="5231880"/>
            <a:ext cx="14292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 flipV="1">
            <a:off x="5071680" y="6000840"/>
            <a:ext cx="114300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85840" y="342900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ойничный нерв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85840" y="3857760"/>
            <a:ext cx="28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одящий нерв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71680" y="4286160"/>
            <a:ext cx="257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цевой нерв 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0" y="471492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дверно-улитковый нерв 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215040" y="450072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зыкоглоточный нерв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357960" y="485784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уждающий нерв 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357960" y="542916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бавочный нерв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357960" y="592920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ъязычный нерв (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cfa9"/>
            </a:gs>
            <a:gs pos="50000">
              <a:srgbClr val="e6eddf"/>
            </a:gs>
            <a:gs pos="100000">
              <a:srgbClr val="bccfa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На сегодня всё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5"/>
          <p:cNvPicPr/>
          <p:nvPr/>
        </p:nvPicPr>
        <p:blipFill>
          <a:blip r:embed="rId1"/>
          <a:stretch/>
        </p:blipFill>
        <p:spPr>
          <a:xfrm>
            <a:off x="4500720" y="4619520"/>
            <a:ext cx="359856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214200"/>
                </a:solidFill>
                <a:latin typeface="Arial Black"/>
              </a:rPr>
              <a:t>Отде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вол 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долговатый мозг, мост, средний мозг, промежуточный моз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ечный мозг 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шария большого мозг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отделы головного мозга"/>
          <p:cNvPicPr/>
          <p:nvPr/>
        </p:nvPicPr>
        <p:blipFill>
          <a:blip r:embed="rId1"/>
          <a:stretch/>
        </p:blipFill>
        <p:spPr>
          <a:xfrm>
            <a:off x="468360" y="453960"/>
            <a:ext cx="7559640" cy="6404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516720" y="260280"/>
            <a:ext cx="26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шария большого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4797360"/>
            <a:ext cx="29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524720" y="1773360"/>
            <a:ext cx="16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12000" y="623736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187280" y="5950080"/>
            <a:ext cx="16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380360" y="4941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1979640" y="3860640"/>
            <a:ext cx="18716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H="1">
            <a:off x="5651640" y="907920"/>
            <a:ext cx="12254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4427280" y="2133720"/>
            <a:ext cx="30970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V="1">
            <a:off x="2050920" y="5013000"/>
            <a:ext cx="23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5866920" y="4723920"/>
            <a:ext cx="1513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H="1" flipV="1">
            <a:off x="4788000" y="6093000"/>
            <a:ext cx="12240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14200"/>
                </a:solidFill>
                <a:latin typeface="Arial Black"/>
              </a:rPr>
              <a:t>Головной мозг (вид сниз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808" t="0" r="3616" b="0"/>
          <a:stretch/>
        </p:blipFill>
        <p:spPr>
          <a:xfrm>
            <a:off x="539640" y="765000"/>
            <a:ext cx="3816360" cy="6093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508720" y="3573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2195280" y="3789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435640" y="4149720"/>
            <a:ext cx="34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сочная доля коры больших полуша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H="1" flipV="1">
            <a:off x="3564000" y="4221000"/>
            <a:ext cx="180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92720" y="5013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H="1" flipV="1">
            <a:off x="2050920" y="4438440"/>
            <a:ext cx="3097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76720" y="56610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 flipV="1">
            <a:off x="2987640" y="551808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896000" y="6308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1871640" y="5589360"/>
            <a:ext cx="29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940360" y="24210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1979280" y="2637000"/>
            <a:ext cx="360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580000" y="98100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обная доля коры больших полуша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2771640" y="1268280"/>
            <a:ext cx="266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14200"/>
                </a:solidFill>
                <a:latin typeface="Arial Black"/>
              </a:rPr>
              <a:t>Ствол (вид спереди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8" descr="ствол (вид спереди)"/>
          <p:cNvPicPr/>
          <p:nvPr/>
        </p:nvPicPr>
        <p:blipFill>
          <a:blip r:embed="rId1"/>
          <a:srcRect l="2744" t="0" r="0" b="0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14200"/>
                </a:solidFill>
                <a:latin typeface="Arial Black"/>
              </a:rPr>
              <a:t>Ствол</a:t>
            </a:r>
            <a:r>
              <a:rPr b="0" i="1" lang="en-US" sz="4000" spc="-1" strike="noStrike">
                <a:solidFill>
                  <a:srgbClr val="2142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214200"/>
                </a:solidFill>
                <a:latin typeface="Arial Black"/>
              </a:rPr>
              <a:t>(вид сзади и сбок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6549" t="0" r="8024" b="0"/>
          <a:stretch/>
        </p:blipFill>
        <p:spPr>
          <a:xfrm>
            <a:off x="2340000" y="836640"/>
            <a:ext cx="4392720" cy="6021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68360" y="119700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алам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1619280" y="1413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95280" y="1844640"/>
            <a:ext cx="23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тверохолм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2195640" y="2060640"/>
            <a:ext cx="1512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4788000" y="2060640"/>
            <a:ext cx="22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093080" y="184464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жка моз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2421000"/>
            <a:ext cx="23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оковый нерв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484360" y="2637000"/>
            <a:ext cx="180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93080" y="249228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5148000" y="2708280"/>
            <a:ext cx="187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5580000" y="321300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732720" y="2997360"/>
            <a:ext cx="24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ойничный нерв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83400" y="3645000"/>
            <a:ext cx="24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дверно-улитковый нерв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5148000" y="3933720"/>
            <a:ext cx="1439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H="1" flipV="1">
            <a:off x="5148000" y="4508640"/>
            <a:ext cx="1655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77080" y="4437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цевой нерв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472428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4836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1979640" y="4149360"/>
            <a:ext cx="2521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V="1">
            <a:off x="1979640" y="3933360"/>
            <a:ext cx="936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5280" y="4149720"/>
            <a:ext cx="23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 среза мозже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14200"/>
                </a:solidFill>
                <a:latin typeface="Arial Black"/>
              </a:rPr>
              <a:t>Ствол (вид сзад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ромбовидная ямка"/>
          <p:cNvPicPr/>
          <p:nvPr/>
        </p:nvPicPr>
        <p:blipFill>
          <a:blip r:embed="rId1"/>
          <a:srcRect l="6472" t="8028" r="6113" b="2562"/>
          <a:stretch/>
        </p:blipFill>
        <p:spPr>
          <a:xfrm>
            <a:off x="2268360" y="1052640"/>
            <a:ext cx="5634360" cy="5805360"/>
          </a:xfrm>
          <a:prstGeom prst="rect">
            <a:avLst/>
          </a:prstGeom>
          <a:ln w="0">
            <a:noFill/>
          </a:ln>
        </p:spPr>
      </p:pic>
      <p:sp>
        <p:nvSpPr>
          <p:cNvPr id="108" name="Line 7"/>
          <p:cNvSpPr/>
          <p:nvPr/>
        </p:nvSpPr>
        <p:spPr>
          <a:xfrm flipV="1">
            <a:off x="1763640" y="2420640"/>
            <a:ext cx="2376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6084360" y="314172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 flipV="1">
            <a:off x="4500360" y="5950080"/>
            <a:ext cx="1871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160" y="3068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верохолм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480000" y="60357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7470360" y="25653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68360" y="0"/>
            <a:ext cx="8229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14200"/>
                </a:solidFill>
                <a:latin typeface="Arial Black"/>
              </a:rPr>
              <a:t>Доли КБ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кора больших полушарий"/>
          <p:cNvPicPr/>
          <p:nvPr/>
        </p:nvPicPr>
        <p:blipFill>
          <a:blip r:embed="rId1"/>
          <a:srcRect l="0" t="5572" r="0" b="3457"/>
          <a:stretch/>
        </p:blipFill>
        <p:spPr>
          <a:xfrm>
            <a:off x="684360" y="1222200"/>
            <a:ext cx="7200720" cy="5635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50920" y="119700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9640" y="602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с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199280" y="141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04000" y="6165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ыл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5292720" y="1916280"/>
            <a:ext cx="2232000" cy="129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 flipV="1">
            <a:off x="6588000" y="4723920"/>
            <a:ext cx="93672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1116000" y="1700280"/>
            <a:ext cx="187164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V="1">
            <a:off x="2124000" y="5013000"/>
            <a:ext cx="172728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b87"/>
            </a:gs>
            <a:gs pos="50000">
              <a:srgbClr val="cfddc2"/>
            </a:gs>
            <a:gs pos="100000">
              <a:srgbClr val="a1bb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4442"/>
          <a:stretch/>
        </p:blipFill>
        <p:spPr>
          <a:xfrm>
            <a:off x="1332000" y="1052640"/>
            <a:ext cx="6553080" cy="5805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14200"/>
                </a:solidFill>
                <a:latin typeface="Arial Black"/>
              </a:rPr>
              <a:t>Желудочки моз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119700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609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вер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199280" y="141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4500720" y="1916280"/>
            <a:ext cx="3024000" cy="20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1258920" y="1628640"/>
            <a:ext cx="2160720" cy="18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3132000" y="5373360"/>
            <a:ext cx="208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1258920" y="1628640"/>
            <a:ext cx="223344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7:07:26Z</dcterms:created>
  <dc:creator>Васильев П.А.</dc:creator>
  <dc:description/>
  <dc:language>en-US</dc:language>
  <cp:lastModifiedBy>Павел</cp:lastModifiedBy>
  <dcterms:modified xsi:type="dcterms:W3CDTF">2013-11-19T18:57:46Z</dcterms:modified>
  <cp:revision>27</cp:revision>
  <dc:subject/>
  <dc:title>Нервная система</dc:title>
</cp:coreProperties>
</file>