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0.gif" ContentType="image/gif"/>
  <Override PartName="/ppt/media/image31.jpeg" ContentType="image/jpeg"/>
  <Override PartName="/ppt/media/image41.png" ContentType="image/png"/>
  <Override PartName="/ppt/media/image45.jpeg" ContentType="image/jpeg"/>
  <Override PartName="/ppt/media/image46.jpeg" ContentType="image/jpeg"/>
  <Override PartName="/ppt/media/image43.gif" ContentType="image/gif"/>
  <Override PartName="/ppt/media/image36.png" ContentType="image/png"/>
  <Override PartName="/ppt/media/image6.png" ContentType="image/png"/>
  <Override PartName="/ppt/media/image33.gif" ContentType="image/gif"/>
  <Override PartName="/ppt/media/image3.gif" ContentType="image/gif"/>
  <Override PartName="/ppt/media/image10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0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C23-8C41-423F-8C23-F6806933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142-B7C7-4A65-BFAC-36F93F6A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4C9-24C3-4200-A3A8-63351FC7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30E-70E4-4FEA-8CC5-42D8693C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7D0-81F2-4080-B51A-282BBB81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1FF-09E0-409B-9540-6614FEE4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DC6-FA61-4C30-A6B4-95FBFAFD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D62-A0CC-4C05-9160-892F3DED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368-1656-42AC-80A4-48EA8FD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EF1-9818-4D3E-817F-B3CDB2C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7C1-D37F-40B9-A092-646785F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743-3A03-46D0-AAF1-B35DB8E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701-A280-406E-8737-BB1AC98B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Анализато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3972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7676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76908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83272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7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Иллюзии</a:t>
            </a:r>
            <a:br>
              <a:rPr sz="7200"/>
            </a:b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в искусств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7946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0" b="50005"/>
          <a:stretch/>
        </p:blipFill>
        <p:spPr>
          <a:xfrm>
            <a:off x="395280" y="260280"/>
            <a:ext cx="4032360" cy="3838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0" t="50005" r="0" b="0"/>
          <a:stretch/>
        </p:blipFill>
        <p:spPr>
          <a:xfrm>
            <a:off x="4788000" y="2781360"/>
            <a:ext cx="403200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12000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1440" cy="55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993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388360" cy="483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8320" y="580536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уриц Э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c2e00"/>
                </a:solidFill>
                <a:latin typeface="Arial Black"/>
              </a:rPr>
              <a:t>Анализатор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 –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вокупность органов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принимающи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обрабатывающих информ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560" y="3500280"/>
            <a:ext cx="7993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иферическ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одящие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асток Ц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04840" y="2492280"/>
            <a:ext cx="325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c2e00"/>
                </a:solidFill>
                <a:latin typeface="Arial Black"/>
              </a:rPr>
              <a:t>Стро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08320" y="580536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уриц Э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604836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8320" y="580536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уриц Э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584280"/>
            <a:ext cx="655308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72320" y="595008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уриц Э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517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0320" y="595008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уриц Э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05240" y="0"/>
            <a:ext cx="536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734000" cy="604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6120" y="558972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тавио Окам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77760" y="59500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тавио Окам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75960" y="595008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5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945040" y="580536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не Магри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8680" y="59500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не Магри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4971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29040" y="57340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не Магри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Точность</a:t>
            </a:r>
            <a:br>
              <a:rPr sz="7200"/>
            </a:b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восприят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240984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81400" y="6093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ладимир К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57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16680" y="580536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ладимир К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9910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0680" y="573408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ладимир К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38336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80320" y="609300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лег Шупл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16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c2e00"/>
                </a:solidFill>
                <a:latin typeface="Arial Black"/>
              </a:rPr>
              <a:t>Зрительный анализат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136872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c2e00"/>
                </a:solidFill>
                <a:latin typeface="Arial Black"/>
              </a:rPr>
              <a:t>Общее устрой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47640" y="1339920"/>
            <a:ext cx="608364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c2e00"/>
                </a:solidFill>
                <a:latin typeface="Arial Black"/>
              </a:rPr>
              <a:t>Дополнения гл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1906560"/>
            <a:ext cx="532764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c2e00"/>
                </a:solidFill>
                <a:latin typeface="Arial Black"/>
              </a:rPr>
              <a:t>Дополнения гл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Глазодвигательные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6920" y="4275000"/>
            <a:ext cx="7471080" cy="258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771640" y="1484280"/>
            <a:ext cx="36720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c2e00"/>
                </a:solidFill>
                <a:latin typeface="Arial Black"/>
              </a:rPr>
              <a:t>Строение 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3724" t="0" r="3207" b="0"/>
          <a:stretch/>
        </p:blipFill>
        <p:spPr>
          <a:xfrm>
            <a:off x="250920" y="1557360"/>
            <a:ext cx="6265800" cy="5049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88000" y="1773360"/>
            <a:ext cx="255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го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удис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ачок (за 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устал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тч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клови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4000" y="1916280"/>
            <a:ext cx="6067440" cy="4625640"/>
            <a:chOff x="324000" y="1916280"/>
            <a:chExt cx="6067440" cy="4625640"/>
          </a:xfrm>
        </p:grpSpPr>
        <p:sp>
          <p:nvSpPr>
            <p:cNvPr id="114" name=""/>
            <p:cNvSpPr/>
            <p:nvPr/>
          </p:nvSpPr>
          <p:spPr>
            <a:xfrm flipV="1">
              <a:off x="4716360" y="2276280"/>
              <a:ext cx="432000" cy="43164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219640" y="3141720"/>
              <a:ext cx="504720" cy="57456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24360" y="5589720"/>
              <a:ext cx="863640" cy="50328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7640" y="5373720"/>
              <a:ext cx="1224000" cy="43164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4869000"/>
              <a:ext cx="1079280" cy="7272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26920" y="4292640"/>
              <a:ext cx="649440" cy="64908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476000" y="2636640"/>
              <a:ext cx="1366920" cy="1439640"/>
            </a:xfrm>
            <a:prstGeom prst="line">
              <a:avLst/>
            </a:prstGeom>
            <a:ln w="31680">
              <a:solidFill>
                <a:srgbClr val="ffff5d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8360" y="191628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24360" y="270828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6360" y="602136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1640" y="566100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4724280"/>
              <a:ext cx="5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486900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220500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5d"/>
                  </a:solidFill>
                  <a:latin typeface="Arial Black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74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5c2e00"/>
                </a:solidFill>
                <a:latin typeface="Arial Black"/>
              </a:rPr>
              <a:t>Формирование изображен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889308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4875120" cy="489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1840" y="609300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ядя в центр, подвигайте головой вперед-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985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900" spc="-1" strike="noStrike">
                <a:solidFill>
                  <a:srgbClr val="5c2e00"/>
                </a:solidFill>
                <a:latin typeface="Arial Black"/>
              </a:rPr>
              <a:t>Близорукость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511280" cy="1120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74883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5c2e00"/>
                </a:solidFill>
                <a:latin typeface="Arial Black"/>
              </a:rPr>
              <a:t>Дальнозоркость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flipH="1">
            <a:off x="250920" y="260280"/>
            <a:ext cx="1511280" cy="1120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820908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68452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c2e00"/>
                </a:solidFill>
                <a:latin typeface="Arial Black"/>
              </a:rPr>
              <a:t>Слуховой анализат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5182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х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литк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р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ухо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она КБ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 flipH="1">
            <a:off x="6227640" y="3213000"/>
            <a:ext cx="237672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5c2e00"/>
                </a:solidFill>
                <a:latin typeface="Arial Black"/>
              </a:rPr>
              <a:t>Сколько ушей</a:t>
            </a:r>
            <a:br>
              <a:rPr sz="6600"/>
            </a:br>
            <a:r>
              <a:rPr b="0" i="1" lang="en-US" sz="6600" spc="-1" strike="noStrike">
                <a:solidFill>
                  <a:srgbClr val="5c2e00"/>
                </a:solidFill>
                <a:latin typeface="Arial Black"/>
              </a:rPr>
              <a:t>у челове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c2e00"/>
                </a:solidFill>
                <a:latin typeface="Arial Black"/>
              </a:rPr>
              <a:t>Строение 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1840" y="2012760"/>
            <a:ext cx="2905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0" t="1485" r="0" b="2765"/>
          <a:stretch/>
        </p:blipFill>
        <p:spPr>
          <a:xfrm>
            <a:off x="395280" y="1413000"/>
            <a:ext cx="5535720" cy="4795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1341360"/>
            <a:ext cx="3132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шная рак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у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ховой пр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аба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п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абанная по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луховая (евстахиева) тр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Улитка (кортиев орг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07680" y="2296800"/>
            <a:ext cx="579240" cy="60012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4079880"/>
            <a:ext cx="71640" cy="104940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86200" y="3981600"/>
            <a:ext cx="217440" cy="172404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3929040"/>
            <a:ext cx="358920" cy="180504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0400" y="5318280"/>
            <a:ext cx="579240" cy="674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70560" y="1961640"/>
            <a:ext cx="433080" cy="179892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2560" y="5181480"/>
            <a:ext cx="29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0200" y="5757840"/>
            <a:ext cx="29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5805360"/>
            <a:ext cx="29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0920" y="1581120"/>
            <a:ext cx="29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8200" y="5829480"/>
            <a:ext cx="29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c2e00"/>
                </a:solidFill>
                <a:latin typeface="Arial Black"/>
              </a:rPr>
              <a:t>Строение 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1485" r="0" b="2765"/>
          <a:stretch/>
        </p:blipFill>
        <p:spPr>
          <a:xfrm>
            <a:off x="0" y="1628640"/>
            <a:ext cx="5319720" cy="4608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2700360" y="2133720"/>
            <a:ext cx="2879640" cy="1582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3860640"/>
            <a:ext cx="1944720" cy="1440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rcRect l="0" t="0" r="6900" b="0"/>
          <a:stretch/>
        </p:blipFill>
        <p:spPr>
          <a:xfrm>
            <a:off x="5508720" y="3989520"/>
            <a:ext cx="3384360" cy="286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0" t="0" r="0" b="3095"/>
          <a:stretch/>
        </p:blipFill>
        <p:spPr>
          <a:xfrm>
            <a:off x="5580000" y="1125360"/>
            <a:ext cx="291636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c2e00"/>
                </a:solidFill>
                <a:latin typeface="Arial Black"/>
              </a:rPr>
              <a:t>Спасибо</a:t>
            </a:r>
            <a:br>
              <a:rPr sz="6600"/>
            </a:br>
            <a:r>
              <a:rPr b="0" lang="en-US" sz="6600" spc="-1" strike="noStrike">
                <a:solidFill>
                  <a:srgbClr val="5c2e00"/>
                </a:solidFill>
                <a:latin typeface="Arial Black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05800" cy="565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021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ам кажется, что по рисунку идет волна? На самом деле ее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6192720" cy="376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7760" y="907920"/>
            <a:ext cx="36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обычн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335640" cy="445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90120" y="573408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ног у сло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5759280" cy="38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1280" y="566100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го Вы видите на рису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50000" cy="343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55:34Z</dcterms:created>
  <dc:creator>Васильев П.А.</dc:creator>
  <dc:description/>
  <dc:language>en-US</dc:language>
  <cp:lastModifiedBy>Павел</cp:lastModifiedBy>
  <dcterms:modified xsi:type="dcterms:W3CDTF">2012-04-19T17:57:47Z</dcterms:modified>
  <cp:revision>17</cp:revision>
  <dc:subject/>
  <dc:title>Анализаторы</dc:title>
</cp:coreProperties>
</file>