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03C-2FBD-485C-AD57-8A0C702C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8A3-80B8-411A-A637-45E3480A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856-DCC1-4985-9ECB-D8D88F64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C83-A1FC-4130-B5FA-14E62F2F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E5C-779D-43BC-8E3F-11738810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9C6-8FAC-4FA8-85DE-4A551399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DCF-B672-4C51-8B55-FC1200BD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D67-D111-4363-A82F-07E6E38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D26-42EF-4FAE-990C-0D8B2674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AC4-23DC-4BBB-B1AA-A5C6B1A8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BA7-0639-4F7E-AC1A-E1067CAE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6EB-DDB0-425E-9B64-ABE1870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5AC0-6742-4337-BFB9-13A46E061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4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 Black"/>
              </a:rPr>
              <a:t>Выдел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54800" y="3789360"/>
            <a:ext cx="219240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333399"/>
                </a:solidFill>
                <a:latin typeface="Arial Black"/>
              </a:rPr>
              <a:t>Всё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1480" y="2708280"/>
            <a:ext cx="640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135"/>
          <p:cNvPicPr/>
          <p:nvPr/>
        </p:nvPicPr>
        <p:blipFill>
          <a:blip r:embed="rId2"/>
          <a:stretch/>
        </p:blipFill>
        <p:spPr>
          <a:xfrm>
            <a:off x="5076720" y="5013360"/>
            <a:ext cx="3598920" cy="14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Какие структуры осуществляют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функцию выведения из организма продуктов обмена вещест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423072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 Black"/>
              </a:rPr>
              <a:t>Органы,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Arial Black"/>
              </a:rPr>
              <a:t>осуществляющие выдел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71640" y="1844280"/>
            <a:ext cx="2880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г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50028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жа </a:t>
            </a:r>
            <a:r>
              <a:rPr b="1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5661000"/>
            <a:ext cx="2530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8000" y="4005360"/>
            <a:ext cx="2389320" cy="285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20040" y="1773360"/>
            <a:ext cx="2523960" cy="3162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4000" y="1341360"/>
            <a:ext cx="2447640" cy="23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227640" y="4941720"/>
            <a:ext cx="1479600" cy="191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 Black"/>
              </a:rPr>
              <a:t>Обеспечение выделения на разных уровн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00360" y="3716280"/>
            <a:ext cx="1430280" cy="200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животная клетка"/>
          <p:cNvPicPr/>
          <p:nvPr/>
        </p:nvPicPr>
        <p:blipFill>
          <a:blip r:embed="rId4"/>
          <a:srcRect l="22533" t="0" r="27068" b="0"/>
          <a:stretch/>
        </p:blipFill>
        <p:spPr>
          <a:xfrm>
            <a:off x="0" y="3860640"/>
            <a:ext cx="1584360" cy="1943280"/>
          </a:xfrm>
          <a:prstGeom prst="rect">
            <a:avLst/>
          </a:prstGeom>
          <a:ln w="0">
            <a:noFill/>
          </a:ln>
        </p:spPr>
      </p:pic>
      <p:sp>
        <p:nvSpPr>
          <p:cNvPr id="56" name="Line 25"/>
          <p:cNvSpPr/>
          <p:nvPr/>
        </p:nvSpPr>
        <p:spPr>
          <a:xfrm>
            <a:off x="1692360" y="4941720"/>
            <a:ext cx="93492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6"/>
          <p:cNvSpPr/>
          <p:nvPr/>
        </p:nvSpPr>
        <p:spPr>
          <a:xfrm flipV="1">
            <a:off x="4427640" y="4221000"/>
            <a:ext cx="1512720" cy="72072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6"/>
          <p:cNvSpPr/>
          <p:nvPr/>
        </p:nvSpPr>
        <p:spPr>
          <a:xfrm>
            <a:off x="250920" y="5589720"/>
            <a:ext cx="1584360" cy="12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ование продуктов метабол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7"/>
          <p:cNvSpPr/>
          <p:nvPr/>
        </p:nvSpPr>
        <p:spPr>
          <a:xfrm>
            <a:off x="2916360" y="5661000"/>
            <a:ext cx="1358640" cy="119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ров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8"/>
          <p:cNvSpPr/>
          <p:nvPr/>
        </p:nvSpPr>
        <p:spPr>
          <a:xfrm>
            <a:off x="7559640" y="5661000"/>
            <a:ext cx="1584360" cy="119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даление жидких продуктов метабол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332000" y="549360"/>
            <a:ext cx="1123920" cy="2305080"/>
          </a:xfrm>
          <a:prstGeom prst="rect">
            <a:avLst/>
          </a:prstGeom>
          <a:ln w="0">
            <a:noFill/>
          </a:ln>
        </p:spPr>
      </p:pic>
      <p:sp>
        <p:nvSpPr>
          <p:cNvPr id="62" name="Скругленный прямоугольник 7"/>
          <p:cNvSpPr/>
          <p:nvPr/>
        </p:nvSpPr>
        <p:spPr>
          <a:xfrm>
            <a:off x="2340000" y="981000"/>
            <a:ext cx="1511280" cy="90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йро-гуморальная регуля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H="1">
            <a:off x="826560" y="2565360"/>
            <a:ext cx="505080" cy="1008000"/>
          </a:xfrm>
          <a:prstGeom prst="line">
            <a:avLst/>
          </a:prstGeom>
          <a:ln w="889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3419640" y="2205000"/>
            <a:ext cx="1512720" cy="863640"/>
          </a:xfrm>
          <a:prstGeom prst="line">
            <a:avLst/>
          </a:prstGeom>
          <a:ln w="889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2627280" y="2421000"/>
            <a:ext cx="504720" cy="1152360"/>
          </a:xfrm>
          <a:prstGeom prst="line">
            <a:avLst/>
          </a:prstGeom>
          <a:ln w="889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156360" y="549360"/>
            <a:ext cx="1519200" cy="187164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8"/>
          <p:cNvSpPr/>
          <p:nvPr/>
        </p:nvSpPr>
        <p:spPr>
          <a:xfrm>
            <a:off x="7524720" y="620640"/>
            <a:ext cx="125892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даление СО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6084720" y="2637000"/>
            <a:ext cx="1605240" cy="2011320"/>
          </a:xfrm>
          <a:prstGeom prst="rect">
            <a:avLst/>
          </a:prstGeom>
          <a:ln w="0">
            <a:noFill/>
          </a:ln>
        </p:spPr>
      </p:pic>
      <p:sp>
        <p:nvSpPr>
          <p:cNvPr id="69" name="Скругленный прямоугольник 8"/>
          <p:cNvSpPr/>
          <p:nvPr/>
        </p:nvSpPr>
        <p:spPr>
          <a:xfrm>
            <a:off x="7559640" y="3213000"/>
            <a:ext cx="1584360" cy="119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даление жидких продуктов метабол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4500720" y="5229360"/>
            <a:ext cx="1366560" cy="863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4427640" y="2276640"/>
            <a:ext cx="1584360" cy="230472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Black"/>
              </a:rPr>
              <a:t>Мочевыделительная систе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че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чевой пузы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чеиспуск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03680" y="981000"/>
            <a:ext cx="4540320" cy="5877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50920" y="1628640"/>
            <a:ext cx="3961080" cy="10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2852640"/>
            <a:ext cx="3168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8360" y="4292640"/>
            <a:ext cx="2951280" cy="10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5805360"/>
            <a:ext cx="230508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Строение п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10838" t="0" r="0" b="0"/>
          <a:stretch/>
        </p:blipFill>
        <p:spPr>
          <a:xfrm>
            <a:off x="0" y="1268280"/>
            <a:ext cx="4173480" cy="5589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24360" y="5589720"/>
            <a:ext cx="52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уктурно-функциональная единица почк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фр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7080" y="3933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рота 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21080" y="1268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ков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4520" y="249228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зговое 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484360" y="1484280"/>
            <a:ext cx="2735280" cy="64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339640" y="2637000"/>
            <a:ext cx="287964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3347640" y="3716280"/>
            <a:ext cx="2374920" cy="433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2924280"/>
            <a:ext cx="574560" cy="1584360"/>
          </a:xfrm>
          <a:custGeom>
            <a:avLst/>
            <a:gdLst>
              <a:gd name="textAreaLeft" fmla="*/ 0 w 574560"/>
              <a:gd name="textAreaRight" fmla="*/ 207360 w 574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 Black"/>
              </a:rPr>
              <a:t>Строение неф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00720" y="1595520"/>
            <a:ext cx="4027320" cy="5262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2692440"/>
            <a:ext cx="3490920" cy="4165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24000" y="2060640"/>
            <a:ext cx="3456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пс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умена-Шумлян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08360" y="105264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ксимальный канал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0360" y="98100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тальный канал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62373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ля Ген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2637000"/>
            <a:ext cx="57636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476000" y="2637000"/>
            <a:ext cx="863640" cy="86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1484280"/>
            <a:ext cx="71928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956360" y="1773360"/>
            <a:ext cx="360360" cy="151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580000" y="5300640"/>
            <a:ext cx="1224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5300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ьпигиев клуб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356000" y="3715920"/>
            <a:ext cx="1511280" cy="158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10838" t="0" r="0" b="0"/>
          <a:stretch/>
        </p:blipFill>
        <p:spPr>
          <a:xfrm>
            <a:off x="0" y="1268280"/>
            <a:ext cx="4173480" cy="5589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0" t="0" r="0" b="4129"/>
          <a:stretch/>
        </p:blipFill>
        <p:spPr>
          <a:xfrm>
            <a:off x="4638600" y="981000"/>
            <a:ext cx="4505400" cy="5589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62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Мочевыводящие пу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105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ые ч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148428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шая ча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5516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чечная лоха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843280" y="4221000"/>
            <a:ext cx="936720" cy="12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050920" y="1916280"/>
            <a:ext cx="1368720" cy="14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484280"/>
            <a:ext cx="935280" cy="14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484280"/>
            <a:ext cx="71928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Почему у детей до определенного возраста происходит непроизвольное мочеиспускание,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а затем формируется контролируемое?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Каковы анатомические основ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77080" y="459108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21:07:44Z</dcterms:created>
  <dc:creator>Васильев П.А.</dc:creator>
  <dc:description/>
  <dc:language>en-US</dc:language>
  <cp:lastModifiedBy>Павел</cp:lastModifiedBy>
  <dcterms:modified xsi:type="dcterms:W3CDTF">2013-04-18T23:05:09Z</dcterms:modified>
  <cp:revision>13</cp:revision>
  <dc:subject/>
  <dc:title>Выделительная система</dc:title>
</cp:coreProperties>
</file>