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2.gif" ContentType="image/gif"/>
  <Override PartName="/ppt/media/image5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3.jpeg" ContentType="image/jpeg"/>
  <Override PartName="/ppt/media/image4.png" ContentType="image/png"/>
  <Override PartName="/ppt/media/image27.png" ContentType="image/png"/>
  <Override PartName="/ppt/media/image26.jpeg" ContentType="image/jpeg"/>
  <Override PartName="/ppt/media/image2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17.png" ContentType="image/png"/>
  <Override PartName="/ppt/media/image14.jpeg" ContentType="image/jpeg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A0B1-1C10-4B63-8E21-6FDB96D8C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3BE8-724D-4818-B50D-86DA64954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C229-9A62-41C1-996B-876AED82C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B55A-0F7E-4EF3-9B76-28F7D59CE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7847-64B5-48C0-B2CA-7BA6A5660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62F8-F00E-462A-B069-771C27B02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AE9A-6014-4DCF-B9EC-3278C17DC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991C-BFA8-468A-A11E-A3B3B9855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856B-2930-4781-87D9-FBED67C53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9839-B74B-4754-9C72-B62D37BD4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8417-A313-499A-BBE2-85883F684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4C99-7426-41E6-8899-8FA2104B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CFA4A-1193-4EDB-906E-88012474B4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73360"/>
            <a:ext cx="77724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5c2e00"/>
                </a:solidFill>
                <a:latin typeface="Georgia"/>
              </a:rPr>
              <a:t>Размножени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516720" y="333360"/>
            <a:ext cx="206676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a40000"/>
                </a:solidFill>
                <a:latin typeface="Georgia"/>
              </a:rPr>
              <a:t>Общий план стро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067280" y="1341360"/>
            <a:ext cx="4778280" cy="4997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468360" y="981000"/>
            <a:ext cx="3236760" cy="5877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a40000"/>
                </a:solidFill>
                <a:latin typeface="Georgia"/>
              </a:rPr>
              <a:t>Семенники (яички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580000" y="907920"/>
            <a:ext cx="3306960" cy="32083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2208240" y="3141720"/>
            <a:ext cx="3440160" cy="3716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395280" y="1052640"/>
            <a:ext cx="2505240" cy="30477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35" name=""/>
          <p:cNvSpPr/>
          <p:nvPr/>
        </p:nvSpPr>
        <p:spPr>
          <a:xfrm>
            <a:off x="6767640" y="5516640"/>
            <a:ext cx="237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нтерстициальные клетки (Лейдиг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64000" y="249228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летки Серто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8360" y="486900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еменные канальц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987640" y="981000"/>
            <a:ext cx="23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идаток с проток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132000" y="1557360"/>
            <a:ext cx="230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емявыносящий прот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1834920" y="1197000"/>
            <a:ext cx="115236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2556000" y="1773360"/>
            <a:ext cx="576000" cy="215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5364000" y="2565000"/>
            <a:ext cx="1224000" cy="7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692360" y="5013360"/>
            <a:ext cx="1800000" cy="21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692360" y="5229360"/>
            <a:ext cx="2735280" cy="936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332000" y="3573000"/>
            <a:ext cx="287280" cy="1295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7740360" y="3573360"/>
            <a:ext cx="431640" cy="1943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12000" y="4581360"/>
            <a:ext cx="223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перматогенная тка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659640" y="2707920"/>
            <a:ext cx="433440" cy="180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5076360" y="4653000"/>
            <a:ext cx="863640" cy="21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rcRect l="0" t="40558" r="0" b="0"/>
          <a:stretch/>
        </p:blipFill>
        <p:spPr>
          <a:xfrm>
            <a:off x="4356000" y="1268280"/>
            <a:ext cx="4538880" cy="4897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51" name="" descr=""/>
          <p:cNvPicPr/>
          <p:nvPr/>
        </p:nvPicPr>
        <p:blipFill>
          <a:blip r:embed="rId3"/>
          <a:srcRect l="5450" t="0" r="9100" b="0"/>
          <a:stretch/>
        </p:blipFill>
        <p:spPr>
          <a:xfrm>
            <a:off x="395280" y="1773360"/>
            <a:ext cx="3384720" cy="38592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a40000"/>
                </a:solidFill>
                <a:latin typeface="Georgia"/>
              </a:rPr>
              <a:t>Вспомогательные желез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132000" y="5805360"/>
            <a:ext cx="237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ульбоуретральные желез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340000" y="98100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очевой пузыр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2411280" y="5157720"/>
            <a:ext cx="720720" cy="719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339640" y="1413000"/>
            <a:ext cx="863640" cy="1295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03640" y="1413000"/>
            <a:ext cx="3095640" cy="1008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5364000" y="3357360"/>
            <a:ext cx="648000" cy="718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92360" y="4005360"/>
            <a:ext cx="223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едстательная желез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5076720" y="3860640"/>
            <a:ext cx="1008000" cy="1944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268360" y="4365720"/>
            <a:ext cx="1151280" cy="215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6021360"/>
            <a:ext cx="23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еменные пузырь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 flipV="1">
            <a:off x="1258560" y="4005360"/>
            <a:ext cx="73080" cy="201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a40000"/>
                </a:solidFill>
                <a:latin typeface="Georgia"/>
              </a:rPr>
              <a:t>Половой чле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rcRect l="6457" t="5258" r="5273" b="1702"/>
          <a:stretch/>
        </p:blipFill>
        <p:spPr>
          <a:xfrm>
            <a:off x="2843280" y="1125360"/>
            <a:ext cx="3186000" cy="55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66" name=""/>
          <p:cNvSpPr/>
          <p:nvPr/>
        </p:nvSpPr>
        <p:spPr>
          <a:xfrm>
            <a:off x="611280" y="3284640"/>
            <a:ext cx="19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убчатое те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443640" y="1700280"/>
            <a:ext cx="19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ещеристые т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4716360" y="2276640"/>
            <a:ext cx="1656000" cy="1223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979640" y="3645000"/>
            <a:ext cx="2305080" cy="36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4211640" y="2276640"/>
            <a:ext cx="2160720" cy="72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347640" y="476280"/>
            <a:ext cx="554364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5c2e00"/>
                </a:solidFill>
                <a:latin typeface="Georgia"/>
              </a:rPr>
              <a:t>Женская половая систем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rcRect l="2220" t="0" r="11337" b="0"/>
          <a:stretch/>
        </p:blipFill>
        <p:spPr>
          <a:xfrm>
            <a:off x="395280" y="549360"/>
            <a:ext cx="2808360" cy="59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3564000" y="907920"/>
            <a:ext cx="5359320" cy="3624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a40000"/>
                </a:solidFill>
                <a:latin typeface="Georgia"/>
              </a:rPr>
              <a:t>Общий план стро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3"/>
          <a:srcRect l="0" t="9556" r="2274" b="5577"/>
          <a:stretch/>
        </p:blipFill>
        <p:spPr>
          <a:xfrm>
            <a:off x="250920" y="3395520"/>
            <a:ext cx="5003640" cy="346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a40000"/>
                </a:solidFill>
                <a:latin typeface="Georgia"/>
              </a:rPr>
              <a:t>Созревание яйцеклет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0" y="1125360"/>
            <a:ext cx="5067360" cy="5276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5148360" y="1413000"/>
            <a:ext cx="3995640" cy="3678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a40000"/>
                </a:solidFill>
                <a:latin typeface="Georgia"/>
              </a:rPr>
              <a:t>Оплодотворение и имплант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611280" y="892080"/>
            <a:ext cx="8064360" cy="5965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341000"/>
            <a:ext cx="822960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a40000"/>
                </a:solidFill>
                <a:latin typeface="Georgia"/>
              </a:rPr>
              <a:t>На сегодня</a:t>
            </a:r>
            <a:br>
              <a:rPr sz="6600"/>
            </a:br>
            <a:r>
              <a:rPr b="1" i="1" lang="en-US" sz="6600" spc="-1" strike="noStrike">
                <a:solidFill>
                  <a:srgbClr val="a40000"/>
                </a:solidFill>
                <a:latin typeface="Georgia"/>
              </a:rPr>
              <a:t>всё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148360" y="1916280"/>
            <a:ext cx="3608280" cy="4652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8200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a40000"/>
                </a:solidFill>
                <a:latin typeface="Georgia"/>
              </a:rPr>
              <a:t>Размножение</a:t>
            </a:r>
            <a:r>
              <a:rPr b="1" i="1" lang="en-US" sz="4800" spc="-1" strike="noStrike">
                <a:solidFill>
                  <a:srgbClr val="5c2e00"/>
                </a:solidFill>
                <a:latin typeface="Georgia"/>
              </a:rPr>
              <a:t> –</a:t>
            </a:r>
            <a:r>
              <a:rPr b="1" i="1" lang="en-US" sz="3600" spc="-1" strike="noStrike">
                <a:solidFill>
                  <a:srgbClr val="5c2e00"/>
                </a:solidFill>
                <a:latin typeface="Georgia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дна из важнейших функций организм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2781360"/>
            <a:ext cx="0" cy="718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87280" y="2060640"/>
            <a:ext cx="2305080" cy="720720"/>
          </a:xfrm>
          <a:prstGeom prst="roundRect">
            <a:avLst>
              <a:gd name="adj" fmla="val 41190"/>
            </a:avLst>
          </a:prstGeom>
          <a:solidFill>
            <a:srgbClr val="c1b589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Жить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4360" y="3500280"/>
            <a:ext cx="3384360" cy="720720"/>
          </a:xfrm>
          <a:prstGeom prst="roundRect">
            <a:avLst>
              <a:gd name="adj" fmla="val 41190"/>
            </a:avLst>
          </a:prstGeom>
          <a:solidFill>
            <a:srgbClr val="c1b589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змножа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87280" y="4941720"/>
            <a:ext cx="2305080" cy="720720"/>
          </a:xfrm>
          <a:prstGeom prst="roundRect">
            <a:avLst>
              <a:gd name="adj" fmla="val 41190"/>
            </a:avLst>
          </a:prstGeom>
          <a:solidFill>
            <a:srgbClr val="c1b589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Жить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68360" y="4221000"/>
            <a:ext cx="0" cy="71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3200" y="6093000"/>
            <a:ext cx="246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Жить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1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≠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Жить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4360" y="2852640"/>
            <a:ext cx="3600360" cy="1079640"/>
          </a:xfrm>
          <a:prstGeom prst="roundRect">
            <a:avLst>
              <a:gd name="adj" fmla="val 41190"/>
            </a:avLst>
          </a:prstGeom>
          <a:solidFill>
            <a:srgbClr val="c1b589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Беспол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1557360"/>
            <a:ext cx="0" cy="129528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32360" y="2852640"/>
            <a:ext cx="3600360" cy="1079640"/>
          </a:xfrm>
          <a:prstGeom prst="roundRect">
            <a:avLst>
              <a:gd name="adj" fmla="val 41190"/>
            </a:avLst>
          </a:prstGeom>
          <a:solidFill>
            <a:srgbClr val="c1b589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лов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16720" y="1557360"/>
            <a:ext cx="0" cy="129528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404640"/>
            <a:ext cx="6048720" cy="1152720"/>
          </a:xfrm>
          <a:prstGeom prst="roundRect">
            <a:avLst>
              <a:gd name="adj" fmla="val 41190"/>
            </a:avLst>
          </a:prstGeom>
          <a:solidFill>
            <a:srgbClr val="c1b589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a40000"/>
                </a:solidFill>
                <a:latin typeface="Georgia"/>
              </a:rPr>
              <a:t>Размнож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835280" y="4292640"/>
            <a:ext cx="1158840" cy="23050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5867280" y="4292640"/>
            <a:ext cx="1903680" cy="21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5280" y="980640"/>
            <a:ext cx="7931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В чём заключается причина возникновения разных полов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814716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a40000"/>
                </a:solidFill>
                <a:latin typeface="Georgia"/>
              </a:rPr>
              <a:t>Смысл полового размнож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7020000" y="1628640"/>
            <a:ext cx="1836720" cy="16750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39640" y="1989000"/>
            <a:ext cx="1511280" cy="9115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195640" y="3141720"/>
            <a:ext cx="466704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8713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a40000"/>
                </a:solidFill>
                <a:latin typeface="Georgia"/>
              </a:rPr>
              <a:t>Сперматогене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1989000"/>
            <a:ext cx="9144000" cy="387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52000" y="1557360"/>
            <a:ext cx="207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перматого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56360" y="1052640"/>
            <a:ext cx="25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перматоцит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140360" y="1557360"/>
            <a:ext cx="262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перматоцит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374520" y="1052640"/>
            <a:ext cx="17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пермат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5400000">
            <a:off x="1421280" y="4383720"/>
            <a:ext cx="360360" cy="3203640"/>
          </a:xfrm>
          <a:custGeom>
            <a:avLst/>
            <a:gdLst>
              <a:gd name="textAreaLeft" fmla="*/ 0 w 360360"/>
              <a:gd name="textAreaRight" fmla="*/ 129960 w 360360"/>
              <a:gd name="textAreaTop" fmla="*/ 78480 h 3203640"/>
              <a:gd name="textAreaBottom" fmla="*/ 3125160 h 320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46"/>
                  <a:pt x="10800" y="1691"/>
                </a:cubicBezTo>
                <a:lnTo>
                  <a:pt x="10800" y="9290"/>
                </a:lnTo>
                <a:cubicBezTo>
                  <a:pt x="10800" y="10136"/>
                  <a:pt x="16200" y="10981"/>
                  <a:pt x="21600" y="10981"/>
                </a:cubicBezTo>
                <a:cubicBezTo>
                  <a:pt x="16200" y="10981"/>
                  <a:pt x="10800" y="11827"/>
                  <a:pt x="10800" y="12672"/>
                </a:cubicBezTo>
                <a:lnTo>
                  <a:pt x="10800" y="19909"/>
                </a:lnTo>
                <a:cubicBezTo>
                  <a:pt x="10800" y="20755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a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5400000">
            <a:off x="3779640" y="5229000"/>
            <a:ext cx="360360" cy="1512720"/>
          </a:xfrm>
          <a:custGeom>
            <a:avLst/>
            <a:gdLst>
              <a:gd name="textAreaLeft" fmla="*/ 0 w 360360"/>
              <a:gd name="textAreaRight" fmla="*/ 129960 w 360360"/>
              <a:gd name="textAreaTop" fmla="*/ 64080 h 1512720"/>
              <a:gd name="textAreaBottom" fmla="*/ 144864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462"/>
                  <a:pt x="10800" y="2923"/>
                </a:cubicBezTo>
                <a:lnTo>
                  <a:pt x="10800" y="8058"/>
                </a:lnTo>
                <a:cubicBezTo>
                  <a:pt x="10800" y="9520"/>
                  <a:pt x="16200" y="10981"/>
                  <a:pt x="21600" y="10981"/>
                </a:cubicBezTo>
                <a:cubicBezTo>
                  <a:pt x="16200" y="10981"/>
                  <a:pt x="10800" y="12443"/>
                  <a:pt x="10800" y="13904"/>
                </a:cubicBezTo>
                <a:lnTo>
                  <a:pt x="10800" y="18677"/>
                </a:lnTo>
                <a:cubicBezTo>
                  <a:pt x="10800" y="20139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a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5400000">
            <a:off x="5868000" y="4653360"/>
            <a:ext cx="360360" cy="2664000"/>
          </a:xfrm>
          <a:custGeom>
            <a:avLst/>
            <a:gdLst>
              <a:gd name="textAreaLeft" fmla="*/ 0 w 360360"/>
              <a:gd name="textAreaRight" fmla="*/ 129960 w 360360"/>
              <a:gd name="textAreaTop" fmla="*/ 78480 h 2664000"/>
              <a:gd name="textAreaBottom" fmla="*/ 2585520 h 266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17"/>
                  <a:pt x="10800" y="2033"/>
                </a:cubicBezTo>
                <a:lnTo>
                  <a:pt x="10800" y="8948"/>
                </a:lnTo>
                <a:cubicBezTo>
                  <a:pt x="10800" y="9965"/>
                  <a:pt x="16200" y="10981"/>
                  <a:pt x="21600" y="10981"/>
                </a:cubicBezTo>
                <a:cubicBezTo>
                  <a:pt x="16200" y="10981"/>
                  <a:pt x="10800" y="11998"/>
                  <a:pt x="10800" y="13014"/>
                </a:cubicBezTo>
                <a:lnTo>
                  <a:pt x="10800" y="19567"/>
                </a:lnTo>
                <a:cubicBezTo>
                  <a:pt x="10800" y="20584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a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5400000">
            <a:off x="8081640" y="5103720"/>
            <a:ext cx="360360" cy="1763640"/>
          </a:xfrm>
          <a:custGeom>
            <a:avLst/>
            <a:gdLst>
              <a:gd name="textAreaLeft" fmla="*/ 0 w 360360"/>
              <a:gd name="textAreaRight" fmla="*/ 129960 w 360360"/>
              <a:gd name="textAreaTop" fmla="*/ 66960 h 1763640"/>
              <a:gd name="textAreaBottom" fmla="*/ 1696680 h 17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312"/>
                  <a:pt x="10800" y="2624"/>
                </a:cubicBezTo>
                <a:lnTo>
                  <a:pt x="10800" y="8357"/>
                </a:lnTo>
                <a:cubicBezTo>
                  <a:pt x="10800" y="9669"/>
                  <a:pt x="16200" y="10981"/>
                  <a:pt x="21600" y="10981"/>
                </a:cubicBezTo>
                <a:cubicBezTo>
                  <a:pt x="16200" y="10981"/>
                  <a:pt x="10800" y="12293"/>
                  <a:pt x="10800" y="13605"/>
                </a:cubicBezTo>
                <a:lnTo>
                  <a:pt x="10800" y="18976"/>
                </a:lnTo>
                <a:cubicBezTo>
                  <a:pt x="10800" y="20288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a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58160" y="6237360"/>
            <a:ext cx="17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40000"/>
                </a:solidFill>
                <a:latin typeface="Arial"/>
              </a:rPr>
              <a:t>Размно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22680" y="6237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40000"/>
                </a:solidFill>
                <a:latin typeface="Arial"/>
              </a:rPr>
              <a:t>Форм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222520" y="6237360"/>
            <a:ext cx="15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40000"/>
                </a:solidFill>
                <a:latin typeface="Arial"/>
              </a:rPr>
              <a:t>Созре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66520" y="623736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40000"/>
                </a:solidFill>
                <a:latin typeface="Arial"/>
              </a:rPr>
              <a:t>Р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35280" y="1916280"/>
            <a:ext cx="649080" cy="433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476360" y="1916280"/>
            <a:ext cx="71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539640" y="1916280"/>
            <a:ext cx="503280" cy="1657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35280" y="1413000"/>
            <a:ext cx="216000" cy="1584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64000" y="1844640"/>
            <a:ext cx="144720" cy="647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877080" y="1413000"/>
            <a:ext cx="7128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948360" y="1557360"/>
            <a:ext cx="21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перматозо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956720" y="1844640"/>
            <a:ext cx="0" cy="43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7138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a40000"/>
                </a:solidFill>
                <a:latin typeface="Georgia"/>
              </a:rPr>
              <a:t>Овогене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1413000"/>
            <a:ext cx="9144000" cy="47480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900000" y="90792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вого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78920" y="90792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воцит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794920" y="5300640"/>
            <a:ext cx="186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воцит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96000" y="907920"/>
            <a:ext cx="33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Направительные тель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08000" y="1268280"/>
            <a:ext cx="1008360" cy="648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547640" y="1268280"/>
            <a:ext cx="216000" cy="1008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39640" y="1268280"/>
            <a:ext cx="719280" cy="201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3280" y="1268280"/>
            <a:ext cx="144720" cy="115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659640" y="4581000"/>
            <a:ext cx="73080" cy="792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6804000" y="1268280"/>
            <a:ext cx="936720" cy="9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5400000">
            <a:off x="1726920" y="4221000"/>
            <a:ext cx="360360" cy="3814920"/>
          </a:xfrm>
          <a:custGeom>
            <a:avLst/>
            <a:gdLst>
              <a:gd name="textAreaLeft" fmla="*/ 0 w 360360"/>
              <a:gd name="textAreaRight" fmla="*/ 129960 w 360360"/>
              <a:gd name="textAreaTop" fmla="*/ 93240 h 3814920"/>
              <a:gd name="textAreaBottom" fmla="*/ 3721680 h 381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46"/>
                  <a:pt x="10800" y="1691"/>
                </a:cubicBezTo>
                <a:lnTo>
                  <a:pt x="10800" y="9290"/>
                </a:lnTo>
                <a:cubicBezTo>
                  <a:pt x="10800" y="10136"/>
                  <a:pt x="16200" y="10981"/>
                  <a:pt x="21600" y="10981"/>
                </a:cubicBezTo>
                <a:cubicBezTo>
                  <a:pt x="16200" y="10981"/>
                  <a:pt x="10800" y="11827"/>
                  <a:pt x="10800" y="12672"/>
                </a:cubicBezTo>
                <a:lnTo>
                  <a:pt x="10800" y="19909"/>
                </a:lnTo>
                <a:cubicBezTo>
                  <a:pt x="10800" y="20755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a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5400000">
            <a:off x="4607280" y="5191920"/>
            <a:ext cx="360360" cy="1873080"/>
          </a:xfrm>
          <a:custGeom>
            <a:avLst/>
            <a:gdLst>
              <a:gd name="textAreaLeft" fmla="*/ 0 w 360360"/>
              <a:gd name="textAreaRight" fmla="*/ 129960 w 360360"/>
              <a:gd name="textAreaTop" fmla="*/ 79200 h 1873080"/>
              <a:gd name="textAreaBottom" fmla="*/ 1793880 h 187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462"/>
                  <a:pt x="10800" y="2923"/>
                </a:cubicBezTo>
                <a:lnTo>
                  <a:pt x="10800" y="8058"/>
                </a:lnTo>
                <a:cubicBezTo>
                  <a:pt x="10800" y="9520"/>
                  <a:pt x="16200" y="10981"/>
                  <a:pt x="21600" y="10981"/>
                </a:cubicBezTo>
                <a:cubicBezTo>
                  <a:pt x="16200" y="10981"/>
                  <a:pt x="10800" y="12443"/>
                  <a:pt x="10800" y="13904"/>
                </a:cubicBezTo>
                <a:lnTo>
                  <a:pt x="10800" y="18677"/>
                </a:lnTo>
                <a:cubicBezTo>
                  <a:pt x="10800" y="20139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a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5400000">
            <a:off x="7253640" y="4418640"/>
            <a:ext cx="360360" cy="3419640"/>
          </a:xfrm>
          <a:custGeom>
            <a:avLst/>
            <a:gdLst>
              <a:gd name="textAreaLeft" fmla="*/ 0 w 360360"/>
              <a:gd name="textAreaRight" fmla="*/ 129960 w 360360"/>
              <a:gd name="textAreaTop" fmla="*/ 100440 h 3419640"/>
              <a:gd name="textAreaBottom" fmla="*/ 3319200 h 341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17"/>
                  <a:pt x="10800" y="2033"/>
                </a:cubicBezTo>
                <a:lnTo>
                  <a:pt x="10800" y="8948"/>
                </a:lnTo>
                <a:cubicBezTo>
                  <a:pt x="10800" y="9965"/>
                  <a:pt x="16200" y="10981"/>
                  <a:pt x="21600" y="10981"/>
                </a:cubicBezTo>
                <a:cubicBezTo>
                  <a:pt x="16200" y="10981"/>
                  <a:pt x="10800" y="11998"/>
                  <a:pt x="10800" y="13014"/>
                </a:cubicBezTo>
                <a:lnTo>
                  <a:pt x="10800" y="19567"/>
                </a:lnTo>
                <a:cubicBezTo>
                  <a:pt x="10800" y="20584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a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630864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40000"/>
                </a:solidFill>
                <a:latin typeface="Arial"/>
              </a:rPr>
              <a:t>Размно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659640" y="630864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40000"/>
                </a:solidFill>
                <a:latin typeface="Arial"/>
              </a:rPr>
              <a:t>Созре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427640" y="6308640"/>
            <a:ext cx="71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40000"/>
                </a:solidFill>
                <a:latin typeface="Arial"/>
              </a:rPr>
              <a:t>Р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101080" y="1268280"/>
            <a:ext cx="0" cy="648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550280" y="5516640"/>
            <a:ext cx="159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Яйцекле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8459640" y="5013000"/>
            <a:ext cx="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rcRect l="17709" t="32157" r="44480" b="29008"/>
          <a:stretch/>
        </p:blipFill>
        <p:spPr>
          <a:xfrm>
            <a:off x="1908000" y="2492280"/>
            <a:ext cx="1151280" cy="887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07" name="" descr=""/>
          <p:cNvPicPr/>
          <p:nvPr/>
        </p:nvPicPr>
        <p:blipFill>
          <a:blip r:embed="rId3"/>
          <a:srcRect l="56303" t="31113" r="3543" b="29008"/>
          <a:stretch/>
        </p:blipFill>
        <p:spPr>
          <a:xfrm>
            <a:off x="5940360" y="2492280"/>
            <a:ext cx="1152720" cy="8589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08" name=""/>
          <p:cNvSpPr/>
          <p:nvPr/>
        </p:nvSpPr>
        <p:spPr>
          <a:xfrm flipH="1">
            <a:off x="3059280" y="2060640"/>
            <a:ext cx="1441440" cy="6476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03640" y="981000"/>
            <a:ext cx="2592360" cy="503280"/>
          </a:xfrm>
          <a:prstGeom prst="roundRect">
            <a:avLst>
              <a:gd name="adj" fmla="val 41190"/>
            </a:avLst>
          </a:prstGeom>
          <a:solidFill>
            <a:srgbClr val="c1b589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она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7138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a40000"/>
                </a:solidFill>
                <a:latin typeface="Georgia"/>
              </a:rPr>
              <a:t>Формирование по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00720" y="1484280"/>
            <a:ext cx="0" cy="5763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00720" y="2060640"/>
            <a:ext cx="1441440" cy="6476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1258920" y="4221000"/>
            <a:ext cx="2052720" cy="2637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5580000" y="4224240"/>
            <a:ext cx="2633760" cy="26337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15" name=""/>
          <p:cNvSpPr/>
          <p:nvPr/>
        </p:nvSpPr>
        <p:spPr>
          <a:xfrm>
            <a:off x="2556000" y="3429000"/>
            <a:ext cx="0" cy="792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588000" y="3429000"/>
            <a:ext cx="0" cy="792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835280" y="1413000"/>
            <a:ext cx="649080" cy="649080"/>
          </a:xfrm>
          <a:prstGeom prst="ellipse">
            <a:avLst/>
          </a:prstGeom>
          <a:solidFill>
            <a:srgbClr val="c1b589">
              <a:alpha val="1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516720" y="1413000"/>
            <a:ext cx="649080" cy="649080"/>
          </a:xfrm>
          <a:prstGeom prst="ellipse">
            <a:avLst/>
          </a:prstGeom>
          <a:solidFill>
            <a:srgbClr val="c1b589">
              <a:alpha val="1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484360" y="1773360"/>
            <a:ext cx="2016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4500720" y="1773360"/>
            <a:ext cx="2016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256536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емен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236000" y="256536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Яич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564000" y="515772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рган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27280" y="3573360"/>
            <a:ext cx="151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Гормо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003640" y="3573360"/>
            <a:ext cx="151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Гормо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916360" y="476280"/>
            <a:ext cx="597528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5c2e00"/>
                </a:solidFill>
                <a:latin typeface="Georgia"/>
              </a:rPr>
              <a:t>Мужская половая систем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50920" y="765000"/>
            <a:ext cx="2550960" cy="566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8T21:18:49Z</dcterms:created>
  <dc:creator>Васильев П.А.</dc:creator>
  <dc:description/>
  <dc:language>en-US</dc:language>
  <cp:lastModifiedBy>Павел</cp:lastModifiedBy>
  <dcterms:modified xsi:type="dcterms:W3CDTF">2012-06-07T18:27:43Z</dcterms:modified>
  <cp:revision>6</cp:revision>
  <dc:subject/>
  <dc:title>Гаметогенез</dc:title>
</cp:coreProperties>
</file>