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21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925-DD7C-4A4A-A045-C94FD9D7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9CF-F471-4E12-A3FF-71F0216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FA9-DFFC-414A-A7F4-B2F11164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C5D-54D8-4069-B7AE-8A1B52D6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460-1413-4B5D-99E1-55AEA36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014-6EB4-492F-B32E-9F05EDB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018-263B-4C7B-AC85-6C38F26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113-48BE-4EFB-BC9F-ECFEAED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CBF-2BA5-4C2A-A82A-EA3A9741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660-96AD-433C-A0FB-BE5898CB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6A1-C223-42BD-81E0-CDC84FB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9E8-F8DC-4DAE-999A-6D6D90C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83B4-72BE-4BF0-B7AE-2BF3BD98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640"/>
            <a:ext cx="6480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82c00"/>
                </a:solidFill>
                <a:latin typeface="Arial Black"/>
              </a:rPr>
              <a:t>Нервная систе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9638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549360"/>
            <a:ext cx="3672000" cy="1079280"/>
          </a:xfrm>
          <a:prstGeom prst="roundRect">
            <a:avLst>
              <a:gd name="adj" fmla="val 16667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В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637000"/>
            <a:ext cx="3816360" cy="158400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Центр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от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2637000"/>
            <a:ext cx="4392360" cy="158400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Перифе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от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39640" y="1628640"/>
            <a:ext cx="1222200" cy="1008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4508640"/>
            <a:ext cx="384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ое в-во спинн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зже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обная и теменная доли КБ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ьные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долговат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4581360"/>
            <a:ext cx="410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егетативные волокна в составе черепных и спинномозговых нер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л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0000" y="1628640"/>
            <a:ext cx="1222560" cy="1008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333360"/>
            <a:ext cx="3672000" cy="719280"/>
          </a:xfrm>
          <a:prstGeom prst="roundRect">
            <a:avLst>
              <a:gd name="adj" fmla="val 16667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В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00" y="1844640"/>
            <a:ext cx="3816360" cy="86364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Симп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1844640"/>
            <a:ext cx="4392360" cy="86364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Парасимп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55640" y="1052640"/>
            <a:ext cx="1006200" cy="79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052640"/>
            <a:ext cx="1079280" cy="79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86064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типа «борьбы» или «бег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4797360"/>
            <a:ext cx="1536840" cy="184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386064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я типа «отдыха» и «вос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2997360"/>
            <a:ext cx="0" cy="720720"/>
          </a:xfrm>
          <a:prstGeom prst="line">
            <a:avLst/>
          </a:prstGeom>
          <a:ln w="57240">
            <a:solidFill>
              <a:srgbClr val="003f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2997360"/>
            <a:ext cx="0" cy="720720"/>
          </a:xfrm>
          <a:prstGeom prst="line">
            <a:avLst/>
          </a:prstGeom>
          <a:ln w="57240">
            <a:solidFill>
              <a:srgbClr val="003f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1200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drawingml/2006/table">
            <a:tbl>
              <a:tblPr/>
              <a:tblGrid>
                <a:gridCol w="2627280"/>
                <a:gridCol w="3960720"/>
                <a:gridCol w="2556000"/>
              </a:tblGrid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Действие симпатической В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Орг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Действие парасимпати-ческой В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нка ЖК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чевого пузы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нарные сосуды и сосуды скелетных мыш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уды ЖКТ, п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ач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отде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ция надпоче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ция других жел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20000" y="3068640"/>
            <a:ext cx="1908000" cy="164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2513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drawingml/2006/table">
            <a:tbl>
              <a:tblPr/>
              <a:tblGrid>
                <a:gridCol w="2627280"/>
                <a:gridCol w="3960720"/>
                <a:gridCol w="2556000"/>
              </a:tblGrid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Действие симпатической В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Орг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f3e"/>
                          </a:solidFill>
                          <a:latin typeface="Arial"/>
                        </a:rPr>
                        <a:t>Действие парасимпати-ческой В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ж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лаб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нка ЖК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чевого пузы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нарные сосуды и сосуды скелетных мыш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ж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ж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уды ЖКТ, п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ач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ж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отде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ция надпоче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ция других жел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60436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й нейромедиатор симпатической ВН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адренали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й нейромедиатор парасимпатической ВН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цетилхоли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6800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129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82c00"/>
                </a:solidFill>
                <a:latin typeface="Arial Black"/>
              </a:rPr>
              <a:t>Спинной моз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38880" y="3933720"/>
            <a:ext cx="242244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6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3300"/>
                </a:solidFill>
                <a:latin typeface="Arial Black"/>
              </a:rPr>
              <a:t>Функции</a:t>
            </a:r>
            <a:br>
              <a:rPr sz="4800"/>
            </a:br>
            <a:r>
              <a:rPr b="0" i="1" lang="en-US" sz="4800" spc="-1" strike="noStrike">
                <a:solidFill>
                  <a:srgbClr val="663300"/>
                </a:solidFill>
                <a:latin typeface="Arial Black"/>
              </a:rPr>
              <a:t>спинного моз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4967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лекто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одни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67400" y="2060640"/>
            <a:ext cx="3313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contrast="6000"/>
          </a:blip>
          <a:srcRect l="0" t="1227" r="0" b="0"/>
          <a:stretch/>
        </p:blipFill>
        <p:spPr>
          <a:xfrm>
            <a:off x="611280" y="907920"/>
            <a:ext cx="4186080" cy="5950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 Black"/>
              </a:rPr>
              <a:t>Оболочки спинного 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341360"/>
            <a:ext cx="31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дая 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3068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тинная 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5084640"/>
            <a:ext cx="31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удистая (мягкая) 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42920" y="1628640"/>
            <a:ext cx="280836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42920" y="3284640"/>
            <a:ext cx="280836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71640" y="5516640"/>
            <a:ext cx="295272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5322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 Black"/>
              </a:rPr>
              <a:t>Строение спинного 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154200" y="1484280"/>
            <a:ext cx="72252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360" y="1844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504720" cy="165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27640" y="2492280"/>
            <a:ext cx="86544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220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ний кор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9079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ний кор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76500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ние рога серого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1125360"/>
            <a:ext cx="5032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1125360"/>
            <a:ext cx="144000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6461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дние рога серого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771640" y="2204640"/>
            <a:ext cx="1368720" cy="403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08360" y="2133720"/>
            <a:ext cx="1150920" cy="13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38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663300"/>
                </a:solidFill>
                <a:latin typeface="Arial Black"/>
              </a:rPr>
              <a:t>Спинномозговые нервы</a:t>
            </a:r>
            <a:br>
              <a:rPr sz="6000"/>
            </a:br>
            <a:r>
              <a:rPr b="0" i="1" lang="en-US" sz="6000" spc="-1" strike="noStrike">
                <a:solidFill>
                  <a:srgbClr val="663300"/>
                </a:solidFill>
                <a:latin typeface="Arial Black"/>
              </a:rPr>
              <a:t>(31 пара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 Black"/>
              </a:rPr>
              <a:t>Функции нерв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90364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язь с внешней сред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уляция внутренних фун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а эмоций, памяти, обучения, сна, бодрствования,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8280" y="1052640"/>
            <a:ext cx="31957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13920" t="2825" r="22333" b="4742"/>
          <a:stretch/>
        </p:blipFill>
        <p:spPr>
          <a:xfrm>
            <a:off x="1116000" y="0"/>
            <a:ext cx="1951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4936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b000"/>
                </a:solidFill>
                <a:latin typeface="Arial"/>
                <a:ea typeface="Arial"/>
              </a:rPr>
              <a:t>Шейные нервы (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44640"/>
            <a:ext cx="13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Грудные нервы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(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50028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4003a"/>
                </a:solidFill>
                <a:latin typeface="Arial"/>
                <a:ea typeface="Arial"/>
              </a:rPr>
              <a:t>Поясничные нервы</a:t>
            </a:r>
            <a:r>
              <a:rPr b="0" lang="en-US" sz="1600" spc="-1" strike="noStrike">
                <a:solidFill>
                  <a:srgbClr val="74003a"/>
                </a:solidFill>
                <a:latin typeface="Arial"/>
                <a:ea typeface="Arial"/>
              </a:rPr>
              <a:t>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2428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0000"/>
                </a:solidFill>
                <a:latin typeface="Arial"/>
                <a:ea typeface="Arial"/>
              </a:rPr>
              <a:t>Крестцовые нервы</a:t>
            </a:r>
            <a:r>
              <a:rPr b="0" lang="en-US" sz="1600" spc="-1" strike="noStrike">
                <a:solidFill>
                  <a:srgbClr val="c40000"/>
                </a:solidFill>
                <a:latin typeface="Arial"/>
                <a:ea typeface="Arial"/>
              </a:rPr>
              <a:t> 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276960"/>
            <a:ext cx="14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0000"/>
                </a:solidFill>
                <a:latin typeface="Arial"/>
                <a:ea typeface="Arial"/>
              </a:rPr>
              <a:t>Копчиковые нервы</a:t>
            </a:r>
            <a:r>
              <a:rPr b="0" lang="en-US" sz="1600" spc="-1" strike="noStrike">
                <a:solidFill>
                  <a:srgbClr val="c40000"/>
                </a:solidFill>
                <a:latin typeface="Arial"/>
                <a:ea typeface="Arial"/>
              </a:rPr>
              <a:t>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115920"/>
            <a:ext cx="165744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b000"/>
                </a:solidFill>
                <a:latin typeface="Arial"/>
                <a:ea typeface="Arial"/>
              </a:rPr>
              <a:t>Шей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b000"/>
                </a:solidFill>
                <a:latin typeface="Arial"/>
                <a:ea typeface="Arial"/>
              </a:rPr>
              <a:t>спл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1052640"/>
            <a:ext cx="172872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b000"/>
                </a:solidFill>
                <a:latin typeface="Arial"/>
                <a:ea typeface="Arial"/>
              </a:rPr>
              <a:t>Плеч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2b000"/>
                </a:solidFill>
                <a:latin typeface="Arial"/>
                <a:ea typeface="Arial"/>
              </a:rPr>
              <a:t>спл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3860640"/>
            <a:ext cx="172872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4003a"/>
                </a:solidFill>
                <a:latin typeface="Arial"/>
                <a:ea typeface="Arial"/>
              </a:rPr>
              <a:t>Поясн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4003a"/>
                </a:solidFill>
                <a:latin typeface="Arial"/>
                <a:ea typeface="Arial"/>
              </a:rPr>
              <a:t>спл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9360"/>
            <a:ext cx="1728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Крестц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спл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6237360"/>
            <a:ext cx="1873080" cy="6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Копчик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спл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0"/>
            <a:ext cx="309564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Кожа затылочной части головы и ш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Наружное ух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иафраг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765000"/>
            <a:ext cx="316872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ожа и мыш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лечевого поя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лечевой су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Кожа и мышцы р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4. Слюнные, слезные железы; мышц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расширяющая зрачок; трахея, бронх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легкие;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сердце (симп. С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VIII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2205000"/>
            <a:ext cx="4500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ожа и мышцы спин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Слюнные, слезные железы; мышца, расширяющая зрач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трахея, бронхи, легкие;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пищевод; сердце (симп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-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V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3. ЖКТ, печень, поджелудочная жел.; почки; селез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(симп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-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XI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4. Прямая кишка, мочевой пузырь, половые желе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(симп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V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-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XI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; надпочечники (симп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V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-T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XI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3645000"/>
            <a:ext cx="2808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. Кожа и мышцы жив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. Кожа и мышцы бедра (час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3. Кожа промежности (час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4. Кожа голени и стопы (час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5. Надпочечники (симп.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I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4941720"/>
            <a:ext cx="33116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Мышцы и кожа (част.) ягодиц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ме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Кожа и мышцы зад. поверхности бед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Мышцы и кожа (част.) голени и ст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Прямая кишка, мочевой пузырь, пол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железы, наружные полов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(парасимп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I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-S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V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6597720"/>
            <a:ext cx="3492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ожа в области заднего про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03640" y="475920"/>
            <a:ext cx="431640" cy="7308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26028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90792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1341360"/>
            <a:ext cx="360360" cy="7164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162864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708280"/>
            <a:ext cx="1511280" cy="14436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573360"/>
            <a:ext cx="216000" cy="1584360"/>
          </a:xfrm>
          <a:custGeom>
            <a:avLst/>
            <a:gdLst>
              <a:gd name="textAreaLeft" fmla="*/ 0 w 216000"/>
              <a:gd name="textAreaRight" fmla="*/ 7812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276720" y="4292280"/>
            <a:ext cx="358560" cy="73080"/>
          </a:xfrm>
          <a:prstGeom prst="line">
            <a:avLst/>
          </a:prstGeom>
          <a:ln w="25560">
            <a:solidFill>
              <a:srgbClr val="740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501336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48000" y="5589720"/>
            <a:ext cx="287280" cy="72720"/>
          </a:xfrm>
          <a:prstGeom prst="line">
            <a:avLst/>
          </a:prstGeom>
          <a:ln w="2556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6381720"/>
            <a:ext cx="1008360" cy="0"/>
          </a:xfrm>
          <a:prstGeom prst="line">
            <a:avLst/>
          </a:prstGeom>
          <a:ln w="255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642636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40000" y="6597720"/>
            <a:ext cx="1079640" cy="71280"/>
          </a:xfrm>
          <a:prstGeom prst="line">
            <a:avLst/>
          </a:prstGeom>
          <a:ln w="2556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5589720"/>
            <a:ext cx="360360" cy="0"/>
          </a:xfrm>
          <a:prstGeom prst="line">
            <a:avLst/>
          </a:prstGeom>
          <a:ln w="2556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6597720"/>
            <a:ext cx="358920" cy="71280"/>
          </a:xfrm>
          <a:prstGeom prst="line">
            <a:avLst/>
          </a:prstGeom>
          <a:ln w="2556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4076640"/>
            <a:ext cx="647640" cy="0"/>
          </a:xfrm>
          <a:prstGeom prst="line">
            <a:avLst/>
          </a:prstGeom>
          <a:ln w="25560">
            <a:solidFill>
              <a:srgbClr val="740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557360"/>
            <a:ext cx="574560" cy="14292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476280"/>
            <a:ext cx="647640" cy="14436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561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3300"/>
                </a:solidFill>
                <a:latin typeface="Arial Black"/>
              </a:rPr>
              <a:t>Спасиб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3300"/>
                </a:solidFill>
                <a:latin typeface="Arial Black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82c00"/>
                </a:solidFill>
                <a:latin typeface="Arial Black"/>
              </a:rPr>
              <a:t>Рефлекторный принцип 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912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ефлек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ответная реакция организма на какое-либо воздействие (стиму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30240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82c00"/>
                </a:solidFill>
                <a:latin typeface="Arial Black"/>
              </a:rPr>
              <a:t>Рефлекторная д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1208"/>
          <a:stretch/>
        </p:blipFill>
        <p:spPr>
          <a:xfrm>
            <a:off x="539640" y="436572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92360" y="1052640"/>
            <a:ext cx="197496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56360" y="5229360"/>
            <a:ext cx="2673360" cy="102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6815" r="0" b="14337"/>
          <a:stretch/>
        </p:blipFill>
        <p:spPr>
          <a:xfrm>
            <a:off x="6659640" y="3789360"/>
            <a:ext cx="1992240" cy="16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2205000"/>
            <a:ext cx="1871640" cy="1944720"/>
          </a:xfrm>
          <a:custGeom>
            <a:avLst/>
            <a:gdLst/>
            <a:ahLst/>
            <a:rect l="l" t="t" r="r" b="b"/>
            <a:pathLst>
              <a:path w="1043" h="1180">
                <a:moveTo>
                  <a:pt x="0" y="1180"/>
                </a:moveTo>
                <a:cubicBezTo>
                  <a:pt x="3" y="1028"/>
                  <a:pt x="7" y="877"/>
                  <a:pt x="90" y="726"/>
                </a:cubicBezTo>
                <a:cubicBezTo>
                  <a:pt x="173" y="575"/>
                  <a:pt x="340" y="393"/>
                  <a:pt x="499" y="272"/>
                </a:cubicBezTo>
                <a:cubicBezTo>
                  <a:pt x="658" y="151"/>
                  <a:pt x="850" y="75"/>
                  <a:pt x="1043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8160" y="6021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цеп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5800" y="6165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фф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3240" y="3213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р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609880" y="2174760"/>
            <a:ext cx="1604880" cy="1522440"/>
          </a:xfrm>
          <a:custGeom>
            <a:avLst/>
            <a:gdLst/>
            <a:ahLst/>
            <a:rect l="l" t="t" r="r" b="b"/>
            <a:pathLst>
              <a:path w="1043" h="1180">
                <a:moveTo>
                  <a:pt x="0" y="1180"/>
                </a:moveTo>
                <a:cubicBezTo>
                  <a:pt x="3" y="1028"/>
                  <a:pt x="7" y="877"/>
                  <a:pt x="90" y="726"/>
                </a:cubicBezTo>
                <a:cubicBezTo>
                  <a:pt x="173" y="575"/>
                  <a:pt x="340" y="393"/>
                  <a:pt x="499" y="272"/>
                </a:cubicBezTo>
                <a:cubicBezTo>
                  <a:pt x="658" y="151"/>
                  <a:pt x="850" y="75"/>
                  <a:pt x="1043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275600">
            <a:off x="448920" y="22924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фферент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866800">
            <a:off x="5805360" y="2304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фферент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82c00"/>
                </a:solidFill>
                <a:latin typeface="Arial Black"/>
              </a:rPr>
              <a:t>Рефлекторное кольц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1208"/>
          <a:stretch/>
        </p:blipFill>
        <p:spPr>
          <a:xfrm>
            <a:off x="539640" y="436572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492360" y="1052640"/>
            <a:ext cx="197496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56360" y="5229360"/>
            <a:ext cx="2673360" cy="102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0" t="16815" r="0" b="14337"/>
          <a:stretch/>
        </p:blipFill>
        <p:spPr>
          <a:xfrm>
            <a:off x="6659640" y="3789360"/>
            <a:ext cx="1992240" cy="167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76360" y="2205000"/>
            <a:ext cx="1871640" cy="1944720"/>
          </a:xfrm>
          <a:custGeom>
            <a:avLst/>
            <a:gdLst/>
            <a:ahLst/>
            <a:rect l="l" t="t" r="r" b="b"/>
            <a:pathLst>
              <a:path w="1043" h="1180">
                <a:moveTo>
                  <a:pt x="0" y="1180"/>
                </a:moveTo>
                <a:cubicBezTo>
                  <a:pt x="3" y="1028"/>
                  <a:pt x="7" y="877"/>
                  <a:pt x="90" y="726"/>
                </a:cubicBezTo>
                <a:cubicBezTo>
                  <a:pt x="173" y="575"/>
                  <a:pt x="340" y="393"/>
                  <a:pt x="499" y="272"/>
                </a:cubicBezTo>
                <a:cubicBezTo>
                  <a:pt x="658" y="151"/>
                  <a:pt x="850" y="75"/>
                  <a:pt x="1043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60" y="6021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цеп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5800" y="61657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фф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3240" y="3213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р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609880" y="2174760"/>
            <a:ext cx="1604880" cy="1522440"/>
          </a:xfrm>
          <a:custGeom>
            <a:avLst/>
            <a:gdLst/>
            <a:ahLst/>
            <a:rect l="l" t="t" r="r" b="b"/>
            <a:pathLst>
              <a:path w="1043" h="1180">
                <a:moveTo>
                  <a:pt x="0" y="1180"/>
                </a:moveTo>
                <a:cubicBezTo>
                  <a:pt x="3" y="1028"/>
                  <a:pt x="7" y="877"/>
                  <a:pt x="90" y="726"/>
                </a:cubicBezTo>
                <a:cubicBezTo>
                  <a:pt x="173" y="575"/>
                  <a:pt x="340" y="393"/>
                  <a:pt x="499" y="272"/>
                </a:cubicBezTo>
                <a:cubicBezTo>
                  <a:pt x="658" y="151"/>
                  <a:pt x="850" y="75"/>
                  <a:pt x="1043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275600">
            <a:off x="448920" y="22924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фферент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866800">
            <a:off x="5805360" y="2304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фферент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552800">
            <a:off x="4328280" y="3717000"/>
            <a:ext cx="1692000" cy="1763640"/>
          </a:xfrm>
          <a:custGeom>
            <a:avLst/>
            <a:gdLst/>
            <a:ahLst/>
            <a:rect l="l" t="t" r="r" b="b"/>
            <a:pathLst>
              <a:path w="1043" h="1180">
                <a:moveTo>
                  <a:pt x="0" y="1180"/>
                </a:moveTo>
                <a:cubicBezTo>
                  <a:pt x="3" y="1028"/>
                  <a:pt x="7" y="877"/>
                  <a:pt x="90" y="726"/>
                </a:cubicBezTo>
                <a:cubicBezTo>
                  <a:pt x="173" y="575"/>
                  <a:pt x="340" y="393"/>
                  <a:pt x="499" y="272"/>
                </a:cubicBezTo>
                <a:cubicBezTo>
                  <a:pt x="658" y="151"/>
                  <a:pt x="850" y="75"/>
                  <a:pt x="1043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803800">
            <a:off x="3664080" y="505656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ратная аффер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00360" y="549360"/>
            <a:ext cx="3672000" cy="1584360"/>
          </a:xfrm>
          <a:prstGeom prst="roundRect">
            <a:avLst>
              <a:gd name="adj" fmla="val 16667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Нер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149720"/>
            <a:ext cx="3816360" cy="158436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Центр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4149720"/>
            <a:ext cx="4249800" cy="158436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Перифер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268360" y="2133720"/>
            <a:ext cx="1151280" cy="201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2133720"/>
            <a:ext cx="1151280" cy="201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82c00"/>
                </a:solidFill>
                <a:latin typeface="Arial Black"/>
              </a:rPr>
              <a:t>Периферическая нервн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773360"/>
            <a:ext cx="82803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) 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Чувствитель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афферентные,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остреми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тель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эфферентные,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обеж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) Нервные узлы (гангл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 Нервные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Рецеп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Эффе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9160" y="4581360"/>
            <a:ext cx="16588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0360" y="549360"/>
            <a:ext cx="3672000" cy="1584360"/>
          </a:xfrm>
          <a:prstGeom prst="roundRect">
            <a:avLst>
              <a:gd name="adj" fmla="val 16667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Нер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284640"/>
            <a:ext cx="3816360" cy="158436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Сома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284640"/>
            <a:ext cx="4249800" cy="1584360"/>
          </a:xfrm>
          <a:prstGeom prst="roundRect">
            <a:avLst>
              <a:gd name="adj" fmla="val 36273"/>
            </a:avLst>
          </a:prstGeom>
          <a:solidFill>
            <a:srgbClr val="8000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Вегет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(автоном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26920" y="2133720"/>
            <a:ext cx="792360" cy="115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2133720"/>
            <a:ext cx="935280" cy="115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00512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5157720"/>
            <a:ext cx="17272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82c00"/>
                </a:solidFill>
                <a:latin typeface="Arial Black"/>
              </a:rPr>
              <a:t>Вегетативная нервная систе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57:54Z</dcterms:created>
  <dc:creator>Васильев П.А.</dc:creator>
  <dc:description/>
  <dc:language>en-US</dc:language>
  <cp:lastModifiedBy>Павел</cp:lastModifiedBy>
  <dcterms:modified xsi:type="dcterms:W3CDTF">2013-09-30T00:19:57Z</dcterms:modified>
  <cp:revision>21</cp:revision>
  <dc:subject/>
  <dc:title>Человек</dc:title>
</cp:coreProperties>
</file>