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77B-041D-4F6C-AFC6-CDEB3479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D91-77DF-4738-8C5A-57F10AFF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E55-BBE3-4F25-81FB-805CAEFB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60E-E8C6-4710-9F0A-3A5D7957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2E1-79A4-4171-9CB1-CABF0A44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043-FC8E-45C2-9A0B-75946806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082-7779-4C63-92FD-D44CB23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346-8AD6-4991-A960-EAAD90D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986-51F7-42AC-B763-03F20F54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E72-D51E-4A77-B8A0-A193D0F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F257-E0C9-4291-A2F8-3B1C5BB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457-3157-4495-AA64-DDA2457A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B43E-CAE9-460B-A5AE-372A492F2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482400"/>
                </a:solidFill>
                <a:latin typeface="Arial Black"/>
              </a:rPr>
              <a:t>Кож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499520" cy="35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482400"/>
                </a:solidFill>
                <a:latin typeface="Arial Black"/>
              </a:rPr>
              <a:t>Всё!</a:t>
            </a:r>
            <a:br>
              <a:rPr sz="8800"/>
            </a:br>
            <a:r>
              <a:rPr b="0" i="1" lang="en-US" sz="7200" spc="-1" strike="noStrike">
                <a:solidFill>
                  <a:srgbClr val="482400"/>
                </a:solidFill>
                <a:latin typeface="Wingdings"/>
                <a:ea typeface="Wingdings"/>
              </a:rPr>
              <a:t>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Arial Black"/>
              </a:rPr>
              <a:t>Кож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орган, отделяющий внутреннюю среду организма от внешн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4000" y="2781360"/>
            <a:ext cx="5545080" cy="374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80000" y="1844640"/>
            <a:ext cx="3246480" cy="2656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482400"/>
                </a:solidFill>
                <a:latin typeface="Arial Black"/>
              </a:rPr>
              <a:t>Строение кож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302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дерм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кож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етч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иподер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13167" t="7169" r="15959" b="4636"/>
          <a:stretch/>
        </p:blipFill>
        <p:spPr>
          <a:xfrm>
            <a:off x="3492360" y="1484280"/>
            <a:ext cx="565164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24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482400"/>
                </a:solidFill>
                <a:latin typeface="Arial Black"/>
              </a:rPr>
              <a:t>Эпидерми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32720" y="5805000"/>
            <a:ext cx="2195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ланоц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197000"/>
            <a:ext cx="6300360" cy="5660640"/>
            <a:chOff x="0" y="1197000"/>
            <a:chExt cx="6300360" cy="566064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2982240" cy="56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179880" y="1212120"/>
              <a:ext cx="3120480" cy="564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372360" y="1773360"/>
            <a:ext cx="2638440" cy="39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8172360" y="333360"/>
            <a:ext cx="71460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Arial Black"/>
              </a:rPr>
              <a:t>Производные эпидерм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64000" y="1052640"/>
            <a:ext cx="2367000" cy="33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9695" t="0" r="6274" b="0"/>
          <a:stretch/>
        </p:blipFill>
        <p:spPr>
          <a:xfrm>
            <a:off x="250920" y="1052640"/>
            <a:ext cx="3004920" cy="58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rcRect l="4833" t="0" r="5328" b="0"/>
          <a:stretch/>
        </p:blipFill>
        <p:spPr>
          <a:xfrm>
            <a:off x="6588000" y="1052640"/>
            <a:ext cx="2297160" cy="331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716360" y="4375080"/>
            <a:ext cx="3562560" cy="2482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482400"/>
                </a:solidFill>
                <a:latin typeface="Arial Black"/>
              </a:rPr>
              <a:t>Дер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49236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15727" t="3975" r="15973" b="5209"/>
          <a:stretch/>
        </p:blipFill>
        <p:spPr>
          <a:xfrm>
            <a:off x="179280" y="1413000"/>
            <a:ext cx="518472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482400"/>
                </a:solidFill>
                <a:latin typeface="Arial Black"/>
              </a:rPr>
              <a:t>Молочная желе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0" b="5128"/>
          <a:stretch/>
        </p:blipFill>
        <p:spPr>
          <a:xfrm>
            <a:off x="0" y="1467000"/>
            <a:ext cx="5651640" cy="5135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703" t="3752" r="0" b="0"/>
          <a:stretch/>
        </p:blipFill>
        <p:spPr>
          <a:xfrm>
            <a:off x="5838840" y="1484280"/>
            <a:ext cx="3305160" cy="5086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482400"/>
                </a:solidFill>
                <a:latin typeface="Arial Black"/>
              </a:rPr>
              <a:t>Гиподер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3562" t="10828" r="3562" b="8202"/>
          <a:stretch/>
        </p:blipFill>
        <p:spPr>
          <a:xfrm>
            <a:off x="395280" y="1398600"/>
            <a:ext cx="83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482400"/>
                </a:solidFill>
                <a:latin typeface="Arial Black"/>
              </a:rPr>
              <a:t>Функции кож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а от проникновения веществ и микро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а от механических пов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едение веще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цепто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нтез витами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рморегуля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20:52:47Z</dcterms:created>
  <dc:creator>паша</dc:creator>
  <dc:description/>
  <dc:language>en-US</dc:language>
  <cp:lastModifiedBy>Павел</cp:lastModifiedBy>
  <dcterms:modified xsi:type="dcterms:W3CDTF">2012-06-07T18:08:59Z</dcterms:modified>
  <cp:revision>9</cp:revision>
  <dc:subject/>
  <dc:title>Кожа</dc:title>
</cp:coreProperties>
</file>