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png" ContentType="image/png"/>
  <Override PartName="/ppt/media/image11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gif" ContentType="image/gif"/>
  <Override PartName="/ppt/media/image25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3D9-AB8B-40AA-9A82-4E6E4C29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EED-01A8-4E7F-923B-EDA4D3EC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FBC-8FF6-414B-B4E0-B6E2C663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C3F-017B-4627-A088-D6C0E0EA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84B-04BD-400C-A1CD-F02B876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730-A6A7-4A9B-BCCE-2F2A46E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C04-2E19-4ECD-B8AF-EF38943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6D2-F88C-4405-A236-2AFAA12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862-0E51-4C89-8A76-BA686D5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D4C-8193-41CC-9998-1D6CE11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4D9-C0B0-415F-B6F4-C9D959E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63-E6AD-45B9-86FB-56B4048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6E7C-5DE1-4F38-80BD-9E2D8273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308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42a00"/>
                </a:solidFill>
                <a:latin typeface="Arial Black"/>
              </a:rPr>
              <a:t>Дыхание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20"/>
          <p:cNvPicPr/>
          <p:nvPr/>
        </p:nvPicPr>
        <p:blipFill>
          <a:blip r:embed="rId2"/>
          <a:stretch/>
        </p:blipFill>
        <p:spPr>
          <a:xfrm>
            <a:off x="684360" y="3645000"/>
            <a:ext cx="316692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2a00"/>
                </a:solidFill>
                <a:latin typeface="Arial Black"/>
              </a:rPr>
              <a:t>Трахея и брон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517"/>
          <p:cNvPicPr/>
          <p:nvPr/>
        </p:nvPicPr>
        <p:blipFill>
          <a:blip r:embed="rId2">
            <a:lum contrast="6000"/>
          </a:blip>
          <a:srcRect l="6114" t="0" r="3478" b="0"/>
          <a:stretch/>
        </p:blipFill>
        <p:spPr>
          <a:xfrm>
            <a:off x="4614840" y="765000"/>
            <a:ext cx="4529160" cy="609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Слизистая трахеи"/>
          <p:cNvPicPr/>
          <p:nvPr/>
        </p:nvPicPr>
        <p:blipFill>
          <a:blip r:embed="rId3"/>
          <a:srcRect l="5705" t="9701" r="5130" b="5000"/>
          <a:stretch/>
        </p:blipFill>
        <p:spPr>
          <a:xfrm>
            <a:off x="395280" y="1052640"/>
            <a:ext cx="2792520" cy="396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5084640"/>
            <a:ext cx="187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изистая трах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995640" y="1341360"/>
            <a:ext cx="144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780000" y="263700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рон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700360" y="602136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ронхи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628640"/>
            <a:ext cx="158436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997360"/>
            <a:ext cx="16556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997360"/>
            <a:ext cx="1008000" cy="19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84720" y="5877000"/>
            <a:ext cx="86364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2a00"/>
                </a:solidFill>
                <a:latin typeface="Arial Black"/>
              </a:rPr>
              <a:t>Лег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Легкие 3"/>
          <p:cNvPicPr/>
          <p:nvPr/>
        </p:nvPicPr>
        <p:blipFill>
          <a:blip r:embed="rId2"/>
          <a:srcRect l="0" t="0" r="1315" b="3281"/>
          <a:stretch/>
        </p:blipFill>
        <p:spPr>
          <a:xfrm>
            <a:off x="0" y="1355760"/>
            <a:ext cx="5940360" cy="550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71685" t="4205" r="0" b="45336"/>
          <a:stretch/>
        </p:blipFill>
        <p:spPr>
          <a:xfrm>
            <a:off x="7164360" y="1341360"/>
            <a:ext cx="1703520" cy="316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148360" y="3500280"/>
            <a:ext cx="36036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380360" y="836640"/>
            <a:ext cx="151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859280" y="1268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иетальный л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6372360" y="5157720"/>
            <a:ext cx="20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сцеральный л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219640" y="242100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евральн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1773360"/>
            <a:ext cx="1366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852640"/>
            <a:ext cx="136836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236000" y="3933720"/>
            <a:ext cx="93636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86064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0920" y="11253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68360" y="1557360"/>
            <a:ext cx="216000" cy="42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557360"/>
            <a:ext cx="431640" cy="381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557360"/>
            <a:ext cx="863280" cy="21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867280" y="1268280"/>
            <a:ext cx="3276720" cy="3311640"/>
            <a:chOff x="5867280" y="1268280"/>
            <a:chExt cx="3276720" cy="3311640"/>
          </a:xfrm>
        </p:grpSpPr>
        <p:sp>
          <p:nvSpPr>
            <p:cNvPr id="130" name=""/>
            <p:cNvSpPr/>
            <p:nvPr/>
          </p:nvSpPr>
          <p:spPr>
            <a:xfrm>
              <a:off x="5867280" y="1268280"/>
              <a:ext cx="3276720" cy="3311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251400" y="1268280"/>
              <a:ext cx="2635560" cy="29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2a00"/>
                </a:solidFill>
                <a:latin typeface="Arial Black"/>
              </a:rPr>
              <a:t>Лег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Легкие 3"/>
          <p:cNvPicPr/>
          <p:nvPr/>
        </p:nvPicPr>
        <p:blipFill>
          <a:blip r:embed="rId3"/>
          <a:srcRect l="0" t="0" r="1315" b="3281"/>
          <a:stretch/>
        </p:blipFill>
        <p:spPr>
          <a:xfrm>
            <a:off x="0" y="1355760"/>
            <a:ext cx="5940360" cy="5502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6804000" y="836640"/>
            <a:ext cx="15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ци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140360" y="126828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рминальная бронхи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67640" y="4940280"/>
            <a:ext cx="14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ьве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012000" y="5732640"/>
            <a:ext cx="23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спираторные бронхи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1700280"/>
            <a:ext cx="1656000" cy="7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2563560"/>
            <a:ext cx="647640" cy="309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459640" y="3645000"/>
            <a:ext cx="2178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48360" y="3716280"/>
            <a:ext cx="93636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516720" y="2779560"/>
            <a:ext cx="1150920" cy="288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8029080" y="3645000"/>
            <a:ext cx="43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221000"/>
            <a:ext cx="64764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2a00"/>
                </a:solidFill>
                <a:latin typeface="Arial Black"/>
              </a:rPr>
              <a:t>Дыхательные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amera"/>
          <p:cNvPicPr/>
          <p:nvPr/>
        </p:nvPicPr>
        <p:blipFill>
          <a:blip r:embed="rId2"/>
          <a:stretch/>
        </p:blipFill>
        <p:spPr>
          <a:xfrm>
            <a:off x="8459640" y="6280200"/>
            <a:ext cx="684360" cy="57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0" t="1698" r="49324" b="0"/>
          <a:stretch/>
        </p:blipFill>
        <p:spPr>
          <a:xfrm>
            <a:off x="636480" y="5013360"/>
            <a:ext cx="1533600" cy="184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rcRect l="0" t="2780" r="0" b="0"/>
          <a:stretch/>
        </p:blipFill>
        <p:spPr>
          <a:xfrm>
            <a:off x="2484360" y="765000"/>
            <a:ext cx="4113360" cy="6093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539640" y="1268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удино-ключично-сосцевид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9640" y="2133720"/>
            <a:ext cx="21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естн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11280" y="278136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ружные межребе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11280" y="357336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нутренние межребе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4365720"/>
            <a:ext cx="216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732720" y="126828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нутренние межребе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732720" y="213192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ямая мышца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732720" y="2924280"/>
            <a:ext cx="216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ружная косая мышца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04000" y="3645000"/>
            <a:ext cx="23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нутренняя косая мышца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983280" y="42926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перечная мышца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9640" y="692280"/>
            <a:ext cx="21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ышцы вд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443640" y="692280"/>
            <a:ext cx="230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ышцы выд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rcRect l="59134" t="1698" r="0" b="0"/>
          <a:stretch/>
        </p:blipFill>
        <p:spPr>
          <a:xfrm>
            <a:off x="7164360" y="5013360"/>
            <a:ext cx="1236600" cy="184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419640" y="177336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1773360"/>
            <a:ext cx="215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1773360"/>
            <a:ext cx="7272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50920" y="1773360"/>
            <a:ext cx="136872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71640" y="1413000"/>
            <a:ext cx="115272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068640"/>
            <a:ext cx="115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3068640"/>
            <a:ext cx="93348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268360" y="3644640"/>
            <a:ext cx="165420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3789360"/>
            <a:ext cx="151164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9640" y="4365360"/>
            <a:ext cx="1079640" cy="21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34136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852640"/>
            <a:ext cx="215640" cy="18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 rot="16200000">
            <a:off x="-846000" y="1610640"/>
            <a:ext cx="2016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 rot="16200000">
            <a:off x="-557640" y="3410640"/>
            <a:ext cx="1440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580000" y="1628640"/>
            <a:ext cx="115272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796000" y="1628640"/>
            <a:ext cx="936720" cy="13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148360" y="2565360"/>
            <a:ext cx="1582560" cy="20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79640" y="3284640"/>
            <a:ext cx="1150920" cy="19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08720" y="4005360"/>
            <a:ext cx="1293840" cy="18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508720" y="4797360"/>
            <a:ext cx="1511280" cy="151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2a00"/>
                </a:solidFill>
                <a:latin typeface="Arial Black"/>
              </a:rPr>
              <a:t>Объемы лег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3036960" cy="56898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4427640" y="1341360"/>
            <a:ext cx="201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таточный объ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123640" y="1773360"/>
            <a:ext cx="2303640" cy="20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55640" y="3141720"/>
            <a:ext cx="18716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484000" y="4508640"/>
            <a:ext cx="187164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555640" y="5947920"/>
            <a:ext cx="1871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427640" y="24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зервный объем выд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максимальный выдо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427640" y="544500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зервный объем вд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максимальный вдо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427640" y="407664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ыхательный объ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нормальное дых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 rot="16200000">
            <a:off x="6264360" y="4113000"/>
            <a:ext cx="42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Жизненная емкость лег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96360" y="2421000"/>
            <a:ext cx="360360" cy="4103640"/>
          </a:xfrm>
          <a:custGeom>
            <a:avLst/>
            <a:gdLst>
              <a:gd name="textAreaLeft" fmla="*/ 0 w 360360"/>
              <a:gd name="textAreaRight" fmla="*/ 129960 w 360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42a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42a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hiya"/>
          <p:cNvPicPr/>
          <p:nvPr/>
        </p:nvPicPr>
        <p:blipFill>
          <a:blip r:embed="rId2"/>
          <a:stretch/>
        </p:blipFill>
        <p:spPr>
          <a:xfrm>
            <a:off x="5796000" y="436572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2a00"/>
                </a:solidFill>
                <a:latin typeface="Arial Black"/>
              </a:rPr>
              <a:t>Что представляет собой процесс дых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0360" y="3913200"/>
            <a:ext cx="294480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Дыхание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(биологическое окисление) –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542a00"/>
                </a:solidFill>
                <a:latin typeface="Arial Black"/>
              </a:rPr>
              <a:t>процесс, обеспечивающий организм энерг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6912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2a00"/>
                </a:solidFill>
                <a:latin typeface="Arial Black"/>
              </a:rPr>
              <a:t>Какие системы обеспечивают дых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2a00"/>
                </a:solidFill>
                <a:latin typeface="Arial Black"/>
              </a:rPr>
              <a:t>В чем заключается их ро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07200" y="4921200"/>
            <a:ext cx="1936800" cy="19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2290680" cy="34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животная клетка"/>
          <p:cNvPicPr/>
          <p:nvPr/>
        </p:nvPicPr>
        <p:blipFill>
          <a:blip r:embed="rId3"/>
          <a:srcRect l="22533" t="0" r="27068" b="0"/>
          <a:stretch/>
        </p:blipFill>
        <p:spPr>
          <a:xfrm>
            <a:off x="0" y="1844640"/>
            <a:ext cx="234792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56360" y="692280"/>
            <a:ext cx="2158920" cy="285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156360" y="3860640"/>
            <a:ext cx="2203560" cy="271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2a00"/>
                </a:solidFill>
                <a:latin typeface="Arial Black"/>
              </a:rPr>
              <a:t>Обеспечение дыхания на разных уров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5"/>
          <p:cNvSpPr/>
          <p:nvPr/>
        </p:nvSpPr>
        <p:spPr>
          <a:xfrm flipH="1">
            <a:off x="2268000" y="3213000"/>
            <a:ext cx="107964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 flipH="1">
            <a:off x="5651280" y="1916280"/>
            <a:ext cx="649080" cy="79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539640" y="4437000"/>
            <a:ext cx="165600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3924360" y="4437000"/>
            <a:ext cx="1573200" cy="13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ов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7596360" y="765000"/>
            <a:ext cx="1547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бработка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 внешн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7596360" y="5516640"/>
            <a:ext cx="1547640" cy="13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учение О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 внешней среды и удаление СО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6"/>
          <p:cNvSpPr/>
          <p:nvPr/>
        </p:nvSpPr>
        <p:spPr>
          <a:xfrm flipH="1" flipV="1">
            <a:off x="5651640" y="3789000"/>
            <a:ext cx="72072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2340000" y="3645000"/>
            <a:ext cx="107964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 flipH="1" flipV="1">
            <a:off x="5651640" y="4365360"/>
            <a:ext cx="720720" cy="647640"/>
          </a:xfrm>
          <a:prstGeom prst="line">
            <a:avLst/>
          </a:prstGeom>
          <a:ln w="889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2"/>
          <p:cNvSpPr/>
          <p:nvPr/>
        </p:nvSpPr>
        <p:spPr>
          <a:xfrm>
            <a:off x="1547640" y="54936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42a00"/>
                </a:solidFill>
                <a:latin typeface="Arial Black"/>
              </a:rPr>
              <a:t>Дыхате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42a00"/>
                </a:solidFill>
                <a:latin typeface="Arial Black"/>
              </a:rPr>
              <a:t>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473040" y="4076640"/>
            <a:ext cx="422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оздухоно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у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694840" y="4005360"/>
            <a:ext cx="317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рг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азообм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легк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H="1">
            <a:off x="2555640" y="2565360"/>
            <a:ext cx="936360" cy="136836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5796000" y="2492280"/>
            <a:ext cx="1152360" cy="1441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542a00"/>
                </a:solidFill>
                <a:latin typeface="Arial Black"/>
              </a:rPr>
              <a:t>Воздухоносные пути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3168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с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ах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рон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отделы дыхательной системы"/>
          <p:cNvPicPr/>
          <p:nvPr/>
        </p:nvPicPr>
        <p:blipFill>
          <a:blip r:embed="rId2"/>
          <a:srcRect l="4491" t="0" r="4806" b="0"/>
          <a:stretch/>
        </p:blipFill>
        <p:spPr>
          <a:xfrm>
            <a:off x="3746520" y="907920"/>
            <a:ext cx="5397480" cy="595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3640" y="1628640"/>
            <a:ext cx="2663640" cy="5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11280" y="2637000"/>
            <a:ext cx="381636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84360" y="3286080"/>
            <a:ext cx="381492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340000" y="4006440"/>
            <a:ext cx="4032360" cy="93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340000" y="5300280"/>
            <a:ext cx="338436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2c00"/>
                </a:solidFill>
                <a:latin typeface="Arial Black"/>
              </a:rPr>
              <a:t>Носовая пол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284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унк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52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чищ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52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влаж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52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еззараж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522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гре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487"/>
          <p:cNvPicPr/>
          <p:nvPr/>
        </p:nvPicPr>
        <p:blipFill>
          <a:blip r:embed="rId2"/>
          <a:srcRect l="6915" t="13405" r="8059" b="17705"/>
          <a:stretch/>
        </p:blipFill>
        <p:spPr>
          <a:xfrm>
            <a:off x="4211640" y="981000"/>
            <a:ext cx="4932360" cy="4862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amera"/>
          <p:cNvPicPr/>
          <p:nvPr/>
        </p:nvPicPr>
        <p:blipFill>
          <a:blip r:embed="rId3"/>
          <a:stretch/>
        </p:blipFill>
        <p:spPr>
          <a:xfrm>
            <a:off x="7956720" y="5950080"/>
            <a:ext cx="857160" cy="723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93800" y="4076640"/>
            <a:ext cx="2006640" cy="2041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3564000" y="3284280"/>
            <a:ext cx="266364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6165720"/>
            <a:ext cx="3600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рцательный (реснитчатый) эпит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2a00"/>
                </a:solidFill>
                <a:latin typeface="Arial Black"/>
              </a:rPr>
              <a:t>Гло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51280" y="5300640"/>
            <a:ext cx="3035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рц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пит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дых"/>
          <p:cNvPicPr/>
          <p:nvPr/>
        </p:nvPicPr>
        <p:blipFill>
          <a:blip r:embed="rId2"/>
          <a:stretch/>
        </p:blipFill>
        <p:spPr>
          <a:xfrm>
            <a:off x="57240" y="1125360"/>
            <a:ext cx="5271840" cy="573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Слизистая носовой пол-ти"/>
          <p:cNvPicPr/>
          <p:nvPr/>
        </p:nvPicPr>
        <p:blipFill>
          <a:blip r:embed="rId3"/>
          <a:stretch/>
        </p:blipFill>
        <p:spPr>
          <a:xfrm>
            <a:off x="5219640" y="14590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360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2c00"/>
                </a:solidFill>
                <a:latin typeface="Arial Black"/>
              </a:rPr>
              <a:t>Горт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506"/>
          <p:cNvPicPr/>
          <p:nvPr/>
        </p:nvPicPr>
        <p:blipFill>
          <a:blip r:embed="rId2"/>
          <a:srcRect l="18215" t="4190" r="15467" b="5607"/>
          <a:stretch/>
        </p:blipFill>
        <p:spPr>
          <a:xfrm>
            <a:off x="250920" y="1125360"/>
            <a:ext cx="2886120" cy="547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дых"/>
          <p:cNvPicPr/>
          <p:nvPr/>
        </p:nvPicPr>
        <p:blipFill>
          <a:blip r:embed="rId3"/>
          <a:stretch/>
        </p:blipFill>
        <p:spPr>
          <a:xfrm>
            <a:off x="5796000" y="2924280"/>
            <a:ext cx="2957400" cy="321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олосов"/>
          <p:cNvPicPr/>
          <p:nvPr/>
        </p:nvPicPr>
        <p:blipFill>
          <a:blip r:embed="rId4"/>
          <a:stretch/>
        </p:blipFill>
        <p:spPr>
          <a:xfrm>
            <a:off x="7207200" y="0"/>
            <a:ext cx="1936800" cy="234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0" name="Picture 8" descr="511"/>
          <p:cNvPicPr/>
          <p:nvPr/>
        </p:nvPicPr>
        <p:blipFill>
          <a:blip r:embed="rId5"/>
          <a:srcRect l="10500" t="2848" r="12788" b="4581"/>
          <a:stretch/>
        </p:blipFill>
        <p:spPr>
          <a:xfrm>
            <a:off x="2987640" y="1052640"/>
            <a:ext cx="2943360" cy="54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amera"/>
          <p:cNvPicPr/>
          <p:nvPr/>
        </p:nvPicPr>
        <p:blipFill>
          <a:blip r:embed="rId6"/>
          <a:stretch/>
        </p:blipFill>
        <p:spPr>
          <a:xfrm>
            <a:off x="7380360" y="6254640"/>
            <a:ext cx="71424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amera"/>
          <p:cNvPicPr/>
          <p:nvPr/>
        </p:nvPicPr>
        <p:blipFill>
          <a:blip r:embed="rId7"/>
          <a:stretch/>
        </p:blipFill>
        <p:spPr>
          <a:xfrm>
            <a:off x="8244000" y="6280200"/>
            <a:ext cx="684000" cy="577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508720" y="83664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лосовые свя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453360"/>
            <a:ext cx="2843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Щитовидный хря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95280" y="3644640"/>
            <a:ext cx="647640" cy="26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340000" y="907920"/>
            <a:ext cx="244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горта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268280"/>
            <a:ext cx="93492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341360"/>
            <a:ext cx="12970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56000" y="1413000"/>
            <a:ext cx="1440000" cy="20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164360" y="256536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лосовая щ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740720" y="1628640"/>
            <a:ext cx="5032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19:30Z</dcterms:created>
  <dc:creator>Васильев П.А.</dc:creator>
  <dc:description/>
  <dc:language>en-US</dc:language>
  <cp:lastModifiedBy>Павел</cp:lastModifiedBy>
  <dcterms:modified xsi:type="dcterms:W3CDTF">2013-03-30T13:57:57Z</dcterms:modified>
  <cp:revision>29</cp:revision>
  <dc:subject/>
  <dc:title>Дыхательная система</dc:title>
</cp:coreProperties>
</file>